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12.wmf" ContentType="image/x-wmf"/>
  <Override PartName="/ppt/media/image54.png" ContentType="image/png"/>
  <Override PartName="/ppt/media/image53.png" ContentType="image/png"/>
  <Override PartName="/ppt/media/image52.png" ContentType="image/png"/>
  <Override PartName="/ppt/media/image50.png" ContentType="image/png"/>
  <Override PartName="/ppt/media/image49.png" ContentType="image/png"/>
  <Override PartName="/ppt/media/image10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42.png" ContentType="image/png"/>
  <Override PartName="/ppt/media/image94.jpeg" ContentType="image/jpe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13.png" ContentType="image/png"/>
  <Override PartName="/ppt/media/image51.png" ContentType="image/png"/>
  <Override PartName="/ppt/media/image34.png" ContentType="image/png"/>
  <Override PartName="/ppt/media/image74.jpeg" ContentType="image/jpe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9.jpeg" ContentType="image/jpeg"/>
  <Override PartName="/ppt/media/image39.png" ContentType="image/png"/>
  <Override PartName="/ppt/media/image9.png" ContentType="image/png"/>
  <Override PartName="/ppt/media/image86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79.jpeg" ContentType="image/jpeg"/>
  <Override PartName="/ppt/media/image48.png" ContentType="image/png"/>
  <Override PartName="/ppt/media/image11.png" ContentType="image/png"/>
  <Override PartName="/ppt/media/image6.png" ContentType="image/png"/>
  <Override PartName="/ppt/media/image18.png" ContentType="image/png"/>
  <Override PartName="/ppt/media/image29.png" ContentType="image/png"/>
  <Override PartName="/ppt/media/image38.png" ContentType="image/png"/>
  <Override PartName="/ppt/media/image8.jpeg" ContentType="image/jpeg"/>
  <Override PartName="/ppt/media/image26.png" ContentType="image/png"/>
  <Override PartName="/ppt/media/image5.png" ContentType="image/png"/>
  <Override PartName="/ppt/media/image17.png" ContentType="image/png"/>
  <Override PartName="/ppt/media/image98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92.jpeg" ContentType="image/jpeg"/>
  <Override PartName="/ppt/media/image32.png" ContentType="image/png"/>
  <Override PartName="/ppt/media/image93.jpeg" ContentType="image/jpeg"/>
  <Override PartName="/ppt/media/image2.png" ContentType="image/png"/>
  <Override PartName="/ppt/media/image14.png" ContentType="image/png"/>
  <Override PartName="/ppt/media/image72.jpeg" ContentType="image/jpeg"/>
  <Override PartName="/ppt/media/image25.jpeg" ContentType="image/jpeg"/>
  <Override PartName="/ppt/media/image84.jpeg" ContentType="image/jpeg"/>
  <Override PartName="/ppt/media/image70.jpeg" ContentType="image/jpeg"/>
  <Override PartName="/ppt/media/image71.png" ContentType="image/png"/>
  <Override PartName="/ppt/media/image115.png" ContentType="image/png"/>
  <Override PartName="/ppt/media/image76.png" ContentType="image/png"/>
  <Override PartName="/ppt/media/image78.jpeg" ContentType="image/jpeg"/>
  <Override PartName="/ppt/media/image80.jpeg" ContentType="image/jpeg"/>
  <Override PartName="/ppt/media/image117.jpeg" ContentType="image/jpeg"/>
  <Override PartName="/ppt/media/image87.jpeg" ContentType="image/jpeg"/>
  <Override PartName="/ppt/media/image101.jpeg" ContentType="image/jpeg"/>
  <Override PartName="/ppt/media/image90.png" ContentType="image/png"/>
  <Override PartName="/ppt/media/image116.png" ContentType="image/png"/>
  <Override PartName="/ppt/media/image104.png" ContentType="image/png"/>
  <Override PartName="/ppt/media/image91.jpeg" ContentType="image/jpeg"/>
  <Override PartName="/ppt/media/image114.png" ContentType="image/png"/>
  <Override PartName="/ppt/media/image85.png" ContentType="image/png"/>
  <Override PartName="/ppt/media/image102.jpeg" ContentType="image/jpeg"/>
  <Override PartName="/ppt/media/image82.jpeg" ContentType="image/jpeg"/>
  <Override PartName="/ppt/media/image83.jpeg" ContentType="image/jpeg"/>
  <Override PartName="/ppt/media/image103.jpeg" ContentType="image/jpeg"/>
  <Override PartName="/ppt/media/image95.png" ContentType="image/png"/>
  <Override PartName="/ppt/media/image97.jpeg" ContentType="image/jpeg"/>
  <Override PartName="/ppt/media/image105.jpeg" ContentType="image/jpeg"/>
  <Override PartName="/ppt/media/image113.png" ContentType="image/png"/>
  <Override PartName="/ppt/media/image88.jpeg" ContentType="image/jpeg"/>
  <Override PartName="/ppt/media/image108.jpeg" ContentType="image/jpeg"/>
  <Override PartName="/ppt/media/image112.png" ContentType="image/png"/>
  <Override PartName="/ppt/media/image111.png" ContentType="image/png"/>
  <Override PartName="/ppt/media/image65.wmf" ContentType="image/x-wmf"/>
  <Override PartName="/ppt/media/image109.png" ContentType="image/png"/>
  <Override PartName="/ppt/media/image24.png" ContentType="image/png"/>
  <Override PartName="/ppt/media/image73.jpeg" ContentType="image/jpeg"/>
  <Override PartName="/ppt/media/image106.png" ContentType="image/png"/>
  <Override PartName="/ppt/media/image89.png" ContentType="image/png"/>
  <Override PartName="/ppt/media/image69.jpeg" ContentType="image/jpeg"/>
  <Override PartName="/ppt/media/image68.png" ContentType="image/png"/>
  <Override PartName="/ppt/media/image67.jpeg" ContentType="image/jpeg"/>
  <Override PartName="/ppt/media/image58.png" ContentType="image/png"/>
  <Override PartName="/ppt/media/image66.png" ContentType="image/png"/>
  <Override PartName="/ppt/media/image77.jpeg" ContentType="image/jpeg"/>
  <Override PartName="/ppt/media/image64.png" ContentType="image/png"/>
  <Override PartName="/ppt/media/image15.jpeg" ContentType="image/jpeg"/>
  <Override PartName="/ppt/media/image63.png" ContentType="image/png"/>
  <Override PartName="/ppt/media/image62.png" ContentType="image/png"/>
  <Override PartName="/ppt/media/image96.jpeg" ContentType="image/jpeg"/>
  <Override PartName="/ppt/media/image61.png" ContentType="image/png"/>
  <Override PartName="/ppt/media/image60.png" ContentType="image/png"/>
  <Override PartName="/ppt/media/image110.jpeg" ContentType="image/jpeg"/>
  <Override PartName="/ppt/media/image23.png" ContentType="image/png"/>
  <Override PartName="/ppt/media/image22.png" ContentType="image/png"/>
  <Override PartName="/ppt/media/image59.png" ContentType="image/png"/>
  <Override PartName="/ppt/media/image20.png" ContentType="image/png"/>
  <Override PartName="/ppt/media/image57.png" ContentType="image/png"/>
  <Override PartName="/ppt/media/image107.png" ContentType="image/png"/>
  <Override PartName="/ppt/media/image36.jpeg" ContentType="image/jpeg"/>
  <Override PartName="/ppt/media/image10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4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FA7AC-0789-4027-A530-3935EC0A2004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848040" y="9428040"/>
            <a:ext cx="2948040" cy="49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3480"/>
                <a:tab algn="l" pos="2751120"/>
                <a:tab algn="l" pos="3668760"/>
                <a:tab algn="l" pos="4586400"/>
                <a:tab algn="l" pos="5504040"/>
                <a:tab algn="l" pos="6421320"/>
                <a:tab algn="l" pos="7338960"/>
                <a:tab algn="l" pos="8256600"/>
                <a:tab algn="l" pos="9174240"/>
                <a:tab algn="l" pos="10091880"/>
                <a:tab algn="l" pos="10515600"/>
              </a:tabLst>
            </a:pPr>
            <a:fld id="{FE7E650C-83FC-4917-AF35-F6BAE70117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48040" y="9428040"/>
            <a:ext cx="2948040" cy="49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3480"/>
                <a:tab algn="l" pos="2751120"/>
                <a:tab algn="l" pos="3668760"/>
                <a:tab algn="l" pos="4586400"/>
                <a:tab algn="l" pos="5504040"/>
                <a:tab algn="l" pos="6421320"/>
                <a:tab algn="l" pos="7338960"/>
                <a:tab algn="l" pos="8256600"/>
                <a:tab algn="l" pos="9174240"/>
                <a:tab algn="l" pos="10091880"/>
                <a:tab algn="l" pos="10515600"/>
              </a:tabLst>
            </a:pPr>
            <a:fld id="{9492189B-1DD5-4804-9ACF-49D09B114F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108400"/>
            <a:ext cx="9142560" cy="1748160"/>
            <a:chOff x="0" y="5108400"/>
            <a:chExt cx="9142560" cy="174816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0" y="5110200"/>
              <a:ext cx="9142560" cy="17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2560" cy="174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0" y="0"/>
            <a:ext cx="9142560" cy="5106960"/>
            <a:chOff x="0" y="0"/>
            <a:chExt cx="9142560" cy="5106960"/>
          </a:xfrm>
        </p:grpSpPr>
        <p:pic>
          <p:nvPicPr>
            <p:cNvPr id="4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2560" cy="51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2560" cy="510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1603440"/>
            <a:ext cx="9142560" cy="5100480"/>
            <a:chOff x="0" y="1603440"/>
            <a:chExt cx="9142560" cy="5100480"/>
          </a:xfrm>
        </p:grpSpPr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2560" cy="51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2720" cy="360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5108400"/>
            <a:ext cx="9142560" cy="1748160"/>
            <a:chOff x="0" y="5108400"/>
            <a:chExt cx="9142560" cy="174816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0" y="5110200"/>
              <a:ext cx="9142560" cy="17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108400"/>
              <a:ext cx="9142560" cy="174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0" y="0"/>
            <a:ext cx="9142560" cy="5106960"/>
            <a:chOff x="0" y="0"/>
            <a:chExt cx="9142560" cy="5106960"/>
          </a:xfrm>
        </p:grpSpPr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2560" cy="51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0"/>
              <a:ext cx="9142560" cy="510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1603440"/>
            <a:ext cx="9142560" cy="5100480"/>
            <a:chOff x="0" y="1603440"/>
            <a:chExt cx="9142560" cy="5100480"/>
          </a:xfrm>
        </p:grpSpPr>
        <p:pic>
          <p:nvPicPr>
            <p:cNvPr id="56" name="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2560" cy="51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339920" y="2347920"/>
              <a:ext cx="6462720" cy="360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3865680"/>
            <a:ext cx="9142560" cy="2990880"/>
            <a:chOff x="0" y="3865680"/>
            <a:chExt cx="9142560" cy="2990880"/>
          </a:xfrm>
        </p:grpSpPr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256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0" y="3867120"/>
              <a:ext cx="9142560" cy="2989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0" y="0"/>
            <a:ext cx="9142560" cy="3863880"/>
            <a:chOff x="0" y="0"/>
            <a:chExt cx="9142560" cy="3863880"/>
          </a:xfrm>
        </p:grpSpPr>
        <p:pic>
          <p:nvPicPr>
            <p:cNvPr id="62" name="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2560" cy="38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0"/>
              <a:ext cx="9142560" cy="386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1603440"/>
            <a:ext cx="9142560" cy="5100480"/>
            <a:chOff x="0" y="1603440"/>
            <a:chExt cx="9142560" cy="5100480"/>
          </a:xfrm>
        </p:grpSpPr>
        <p:pic>
          <p:nvPicPr>
            <p:cNvPr id="66" name="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2560" cy="51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339920" y="2347920"/>
              <a:ext cx="6462720" cy="360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wmf"/><Relationship Id="rId7" Type="http://schemas.openxmlformats.org/officeDocument/2006/relationships/image" Target="../media/image66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image" Target="../media/image68.pn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image" Target="../media/image71.pn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png"/><Relationship Id="rId5" Type="http://schemas.openxmlformats.org/officeDocument/2006/relationships/image" Target="../media/image77.jpeg"/><Relationship Id="rId6" Type="http://schemas.openxmlformats.org/officeDocument/2006/relationships/image" Target="../media/image78.jpeg"/><Relationship Id="rId7" Type="http://schemas.openxmlformats.org/officeDocument/2006/relationships/image" Target="../media/image79.jpeg"/><Relationship Id="rId8" Type="http://schemas.openxmlformats.org/officeDocument/2006/relationships/image" Target="../media/image80.jpe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pn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4.jpeg"/><Relationship Id="rId3" Type="http://schemas.openxmlformats.org/officeDocument/2006/relationships/image" Target="../media/image85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pn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pn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4.jpeg"/><Relationship Id="rId3" Type="http://schemas.openxmlformats.org/officeDocument/2006/relationships/image" Target="../media/image95.pn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image" Target="../media/image98.jpeg"/><Relationship Id="rId7" Type="http://schemas.openxmlformats.org/officeDocument/2006/relationships/image" Target="../media/image99.jpe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0.png"/><Relationship Id="rId3" Type="http://schemas.openxmlformats.org/officeDocument/2006/relationships/image" Target="../media/image101.jpeg"/><Relationship Id="rId4" Type="http://schemas.openxmlformats.org/officeDocument/2006/relationships/image" Target="../media/image102.jpeg"/><Relationship Id="rId5" Type="http://schemas.openxmlformats.org/officeDocument/2006/relationships/image" Target="../media/image103.jpe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4.png"/><Relationship Id="rId3" Type="http://schemas.openxmlformats.org/officeDocument/2006/relationships/image" Target="../media/image105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6.png"/><Relationship Id="rId3" Type="http://schemas.openxmlformats.org/officeDocument/2006/relationships/image" Target="../media/image107.png"/><Relationship Id="rId4" Type="http://schemas.openxmlformats.org/officeDocument/2006/relationships/image" Target="../media/image108.jpeg"/><Relationship Id="rId5" Type="http://schemas.openxmlformats.org/officeDocument/2006/relationships/image" Target="../media/image109.png"/><Relationship Id="rId6" Type="http://schemas.openxmlformats.org/officeDocument/2006/relationships/image" Target="../media/image1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1.png"/><Relationship Id="rId3" Type="http://schemas.openxmlformats.org/officeDocument/2006/relationships/image" Target="../media/image112.png"/><Relationship Id="rId4" Type="http://schemas.openxmlformats.org/officeDocument/2006/relationships/image" Target="../media/image113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4.png"/><Relationship Id="rId3" Type="http://schemas.openxmlformats.org/officeDocument/2006/relationships/image" Target="../media/image115.png"/><Relationship Id="rId4" Type="http://schemas.openxmlformats.org/officeDocument/2006/relationships/image" Target="../media/image116.png"/><Relationship Id="rId5" Type="http://schemas.openxmlformats.org/officeDocument/2006/relationships/image" Target="../media/image1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42920" y="225360"/>
            <a:ext cx="8928000" cy="6445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59280" y="423720"/>
            <a:ext cx="5833800" cy="5166000"/>
          </a:xfrm>
          <a:prstGeom prst="rect">
            <a:avLst/>
          </a:prstGeom>
          <a:noFill/>
          <a:ln w="28440">
            <a:solidFill>
              <a:srgbClr val="8f520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17520" indent="-317520" algn="ctr">
              <a:lnSpc>
                <a:spcPct val="100000"/>
              </a:lnSpc>
              <a:buClr>
                <a:srgbClr val="d77c01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Бюджет</a:t>
            </a:r>
            <a:br>
              <a:rPr sz="18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для граждан </a:t>
            </a:r>
            <a:br>
              <a:rPr sz="18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 решению думы  Байкаловского сельского поселения от 19.12.24 г. № 127  «О бюджете   Байкаловского сельского поселения Байкаловского муниципального района Свердловской области на 2025 год и плановый период 2026 и 2027 годов»</a:t>
            </a:r>
            <a:br>
              <a:rPr sz="18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76360" y="423720"/>
            <a:ext cx="185580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85840" y="426960"/>
            <a:ext cx="8729640" cy="62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324000" y="1305000"/>
          <a:ext cx="8668800" cy="5581080"/>
        </p:xfrm>
        <a:graphic>
          <a:graphicData uri="http://schemas.openxmlformats.org/drawingml/2006/table">
            <a:tbl>
              <a:tblPr/>
              <a:tblGrid>
                <a:gridCol w="2889360"/>
                <a:gridCol w="2889720"/>
                <a:gridCol w="288972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ы межбюджетных трасфер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6f95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6f95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налогия в семейном бюдж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6f9500"/>
                    </a:solidFill>
                  </a:tcPr>
                </a:tc>
              </a:tr>
              <a:tr h="146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от латинского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otati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»- дар, пожертвова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ff7a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без определения конкретной цели их исполь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ff7a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 даете своему ребенку «карманные деньг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ff7ae"/>
                    </a:solidFill>
                  </a:tcPr>
                </a:tc>
              </a:tr>
              <a:tr h="173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от латинского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ubvenir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»- приходить на помощ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ение на финансирование «переданных» другим публично-правовым образованиям полном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 даете своему ребенку деньги и посылаете его в магазин купить продукты (по списк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1738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от латинского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ubsidium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»- поддерж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ff7a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ff7a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 «добавляете» денег для того, что бы ваш ребенок купил себе новый телефон (а остальные он накопил са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ff7a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76360" y="274680"/>
            <a:ext cx="81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87440" y="298440"/>
            <a:ext cx="8175600" cy="2925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348000" y="3508200"/>
            <a:ext cx="863640" cy="223920"/>
          </a:xfrm>
          <a:prstGeom prst="rect">
            <a:avLst/>
          </a:prstGeom>
          <a:solidFill>
            <a:srgbClr val="bf4d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0" name=""/>
          <p:cNvSpPr/>
          <p:nvPr/>
        </p:nvSpPr>
        <p:spPr>
          <a:xfrm>
            <a:off x="4211640" y="3284640"/>
            <a:ext cx="865080" cy="44748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1" name=""/>
          <p:cNvSpPr/>
          <p:nvPr/>
        </p:nvSpPr>
        <p:spPr>
          <a:xfrm>
            <a:off x="6021360" y="3284640"/>
            <a:ext cx="719280" cy="447480"/>
          </a:xfrm>
          <a:prstGeom prst="rect">
            <a:avLst/>
          </a:prstGeom>
          <a:solidFill>
            <a:srgbClr val="bf4d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2" name=""/>
          <p:cNvSpPr/>
          <p:nvPr/>
        </p:nvSpPr>
        <p:spPr>
          <a:xfrm>
            <a:off x="6740640" y="3508200"/>
            <a:ext cx="711000" cy="20808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3" name=""/>
          <p:cNvSpPr/>
          <p:nvPr/>
        </p:nvSpPr>
        <p:spPr>
          <a:xfrm>
            <a:off x="3348000" y="3732120"/>
            <a:ext cx="1728720" cy="246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DejaVu Sans"/>
              </a:rPr>
              <a:t>Доходы           Расходы</a:t>
            </a:r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4" name=""/>
          <p:cNvSpPr/>
          <p:nvPr/>
        </p:nvSpPr>
        <p:spPr>
          <a:xfrm>
            <a:off x="6021360" y="3732120"/>
            <a:ext cx="1682640" cy="246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DejaVu Sans"/>
              </a:rPr>
              <a:t>Доходы       Расходы  </a:t>
            </a:r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11280" y="4113360"/>
          <a:ext cx="7994160" cy="2480760"/>
        </p:xfrm>
        <a:graphic>
          <a:graphicData uri="http://schemas.openxmlformats.org/drawingml/2006/table">
            <a:tbl>
              <a:tblPr/>
              <a:tblGrid>
                <a:gridCol w="2664000"/>
                <a:gridCol w="2665800"/>
                <a:gridCol w="2664360"/>
              </a:tblGrid>
              <a:tr h="62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2e2e22"/>
                          </a:solidFill>
                          <a:latin typeface="Times New Roman"/>
                        </a:rPr>
                        <a:t>Дефиц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2e2e22"/>
                          </a:solidFill>
                          <a:latin typeface="Times New Roman"/>
                        </a:rPr>
                        <a:t>Профиц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ейны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копл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лги 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а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ейны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копл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лги 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а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сельского по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копле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ерв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л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копленны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ерв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л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имается решение об источниках покрытия дефицита: использовать имеющиеся остатки, взять в дол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afcb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имается решение, как использовать остатки, погашать дол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afcb2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076720" y="4869000"/>
            <a:ext cx="484200" cy="215640"/>
          </a:xfrm>
          <a:custGeom>
            <a:avLst/>
            <a:gdLst/>
            <a:ahLst/>
            <a:rect l="l" t="t" r="r" b="b"/>
            <a:pathLst>
              <a:path w="1346" h="600">
                <a:moveTo>
                  <a:pt x="336" y="0"/>
                </a:moveTo>
                <a:lnTo>
                  <a:pt x="336" y="300"/>
                </a:lnTo>
                <a:lnTo>
                  <a:pt x="0" y="300"/>
                </a:lnTo>
                <a:lnTo>
                  <a:pt x="673" y="600"/>
                </a:lnTo>
                <a:lnTo>
                  <a:pt x="1346" y="300"/>
                </a:lnTo>
                <a:lnTo>
                  <a:pt x="1009" y="300"/>
                </a:lnTo>
                <a:lnTo>
                  <a:pt x="1009" y="0"/>
                </a:lnTo>
                <a:lnTo>
                  <a:pt x="336" y="0"/>
                </a:lnTo>
              </a:path>
            </a:pathLst>
          </a:custGeom>
          <a:solidFill>
            <a:srgbClr val="bf4d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7" name=""/>
          <p:cNvSpPr/>
          <p:nvPr/>
        </p:nvSpPr>
        <p:spPr>
          <a:xfrm>
            <a:off x="5076720" y="5084640"/>
            <a:ext cx="484200" cy="216000"/>
          </a:xfrm>
          <a:custGeom>
            <a:avLst/>
            <a:gdLst/>
            <a:ahLst/>
            <a:rect l="l" t="t" r="r" b="b"/>
            <a:pathLst>
              <a:path w="1346" h="601">
                <a:moveTo>
                  <a:pt x="336" y="601"/>
                </a:moveTo>
                <a:lnTo>
                  <a:pt x="336" y="300"/>
                </a:lnTo>
                <a:lnTo>
                  <a:pt x="0" y="300"/>
                </a:lnTo>
                <a:lnTo>
                  <a:pt x="673" y="0"/>
                </a:lnTo>
                <a:lnTo>
                  <a:pt x="1346" y="300"/>
                </a:lnTo>
                <a:lnTo>
                  <a:pt x="1009" y="300"/>
                </a:lnTo>
                <a:lnTo>
                  <a:pt x="1009" y="601"/>
                </a:lnTo>
                <a:lnTo>
                  <a:pt x="336" y="601"/>
                </a:lnTo>
              </a:path>
            </a:pathLst>
          </a:custGeom>
          <a:solidFill>
            <a:srgbClr val="bf4d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8" name=""/>
          <p:cNvSpPr/>
          <p:nvPr/>
        </p:nvSpPr>
        <p:spPr>
          <a:xfrm>
            <a:off x="8028000" y="4886280"/>
            <a:ext cx="485640" cy="216000"/>
          </a:xfrm>
          <a:custGeom>
            <a:avLst/>
            <a:gdLst/>
            <a:ahLst/>
            <a:rect l="l" t="t" r="r" b="b"/>
            <a:pathLst>
              <a:path w="1350" h="601">
                <a:moveTo>
                  <a:pt x="337" y="601"/>
                </a:moveTo>
                <a:lnTo>
                  <a:pt x="337" y="300"/>
                </a:lnTo>
                <a:lnTo>
                  <a:pt x="0" y="300"/>
                </a:lnTo>
                <a:lnTo>
                  <a:pt x="675" y="0"/>
                </a:lnTo>
                <a:lnTo>
                  <a:pt x="1350" y="300"/>
                </a:lnTo>
                <a:lnTo>
                  <a:pt x="1012" y="300"/>
                </a:lnTo>
                <a:lnTo>
                  <a:pt x="1012" y="601"/>
                </a:lnTo>
                <a:lnTo>
                  <a:pt x="337" y="601"/>
                </a:lnTo>
              </a:path>
            </a:pathLst>
          </a:custGeom>
          <a:solidFill>
            <a:srgbClr val="79a4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9" name=""/>
          <p:cNvSpPr/>
          <p:nvPr/>
        </p:nvSpPr>
        <p:spPr>
          <a:xfrm>
            <a:off x="8028000" y="5084640"/>
            <a:ext cx="485640" cy="216000"/>
          </a:xfrm>
          <a:custGeom>
            <a:avLst/>
            <a:gdLst/>
            <a:ahLst/>
            <a:rect l="l" t="t" r="r" b="b"/>
            <a:pathLst>
              <a:path w="1350" h="601">
                <a:moveTo>
                  <a:pt x="337" y="0"/>
                </a:moveTo>
                <a:lnTo>
                  <a:pt x="337" y="300"/>
                </a:lnTo>
                <a:lnTo>
                  <a:pt x="0" y="300"/>
                </a:lnTo>
                <a:lnTo>
                  <a:pt x="675" y="601"/>
                </a:lnTo>
                <a:lnTo>
                  <a:pt x="1350" y="300"/>
                </a:lnTo>
                <a:lnTo>
                  <a:pt x="1012" y="300"/>
                </a:lnTo>
                <a:lnTo>
                  <a:pt x="1012" y="0"/>
                </a:lnTo>
                <a:lnTo>
                  <a:pt x="337" y="0"/>
                </a:lnTo>
              </a:path>
            </a:pathLst>
          </a:custGeom>
          <a:solidFill>
            <a:srgbClr val="79a4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0" name=""/>
          <p:cNvSpPr/>
          <p:nvPr/>
        </p:nvSpPr>
        <p:spPr>
          <a:xfrm>
            <a:off x="5076720" y="5481720"/>
            <a:ext cx="484200" cy="250920"/>
          </a:xfrm>
          <a:custGeom>
            <a:avLst/>
            <a:gdLst/>
            <a:ahLst/>
            <a:rect l="l" t="t" r="r" b="b"/>
            <a:pathLst>
              <a:path w="1346" h="698">
                <a:moveTo>
                  <a:pt x="336" y="0"/>
                </a:moveTo>
                <a:lnTo>
                  <a:pt x="336" y="349"/>
                </a:lnTo>
                <a:lnTo>
                  <a:pt x="0" y="349"/>
                </a:lnTo>
                <a:lnTo>
                  <a:pt x="673" y="698"/>
                </a:lnTo>
                <a:lnTo>
                  <a:pt x="1346" y="349"/>
                </a:lnTo>
                <a:lnTo>
                  <a:pt x="1009" y="349"/>
                </a:lnTo>
                <a:lnTo>
                  <a:pt x="1009" y="0"/>
                </a:lnTo>
                <a:lnTo>
                  <a:pt x="336" y="0"/>
                </a:lnTo>
              </a:path>
            </a:pathLst>
          </a:custGeom>
          <a:solidFill>
            <a:srgbClr val="bf4d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1" name=""/>
          <p:cNvSpPr/>
          <p:nvPr/>
        </p:nvSpPr>
        <p:spPr>
          <a:xfrm>
            <a:off x="5076720" y="5732640"/>
            <a:ext cx="484200" cy="217440"/>
          </a:xfrm>
          <a:custGeom>
            <a:avLst/>
            <a:gdLst/>
            <a:ahLst/>
            <a:rect l="l" t="t" r="r" b="b"/>
            <a:pathLst>
              <a:path w="1346" h="605">
                <a:moveTo>
                  <a:pt x="336" y="605"/>
                </a:moveTo>
                <a:lnTo>
                  <a:pt x="336" y="302"/>
                </a:lnTo>
                <a:lnTo>
                  <a:pt x="0" y="302"/>
                </a:lnTo>
                <a:lnTo>
                  <a:pt x="673" y="0"/>
                </a:lnTo>
                <a:lnTo>
                  <a:pt x="1346" y="302"/>
                </a:lnTo>
                <a:lnTo>
                  <a:pt x="1009" y="302"/>
                </a:lnTo>
                <a:lnTo>
                  <a:pt x="1009" y="605"/>
                </a:lnTo>
                <a:lnTo>
                  <a:pt x="336" y="605"/>
                </a:lnTo>
              </a:path>
            </a:pathLst>
          </a:custGeom>
          <a:solidFill>
            <a:srgbClr val="bf4d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5481720"/>
            <a:ext cx="485640" cy="250920"/>
          </a:xfrm>
          <a:custGeom>
            <a:avLst/>
            <a:gdLst/>
            <a:ahLst/>
            <a:rect l="l" t="t" r="r" b="b"/>
            <a:pathLst>
              <a:path w="1350" h="698">
                <a:moveTo>
                  <a:pt x="337" y="698"/>
                </a:moveTo>
                <a:lnTo>
                  <a:pt x="337" y="349"/>
                </a:lnTo>
                <a:lnTo>
                  <a:pt x="0" y="349"/>
                </a:lnTo>
                <a:lnTo>
                  <a:pt x="675" y="0"/>
                </a:lnTo>
                <a:lnTo>
                  <a:pt x="1350" y="349"/>
                </a:lnTo>
                <a:lnTo>
                  <a:pt x="1012" y="349"/>
                </a:lnTo>
                <a:lnTo>
                  <a:pt x="1012" y="698"/>
                </a:lnTo>
                <a:lnTo>
                  <a:pt x="337" y="698"/>
                </a:lnTo>
              </a:path>
            </a:pathLst>
          </a:custGeom>
          <a:solidFill>
            <a:srgbClr val="79a4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3" name=""/>
          <p:cNvSpPr/>
          <p:nvPr/>
        </p:nvSpPr>
        <p:spPr>
          <a:xfrm>
            <a:off x="8028000" y="5732640"/>
            <a:ext cx="485640" cy="288720"/>
          </a:xfrm>
          <a:custGeom>
            <a:avLst/>
            <a:gdLst/>
            <a:ahLst/>
            <a:rect l="l" t="t" r="r" b="b"/>
            <a:pathLst>
              <a:path w="1350" h="803">
                <a:moveTo>
                  <a:pt x="337" y="0"/>
                </a:moveTo>
                <a:lnTo>
                  <a:pt x="337" y="401"/>
                </a:lnTo>
                <a:lnTo>
                  <a:pt x="0" y="401"/>
                </a:lnTo>
                <a:lnTo>
                  <a:pt x="675" y="803"/>
                </a:lnTo>
                <a:lnTo>
                  <a:pt x="1350" y="401"/>
                </a:lnTo>
                <a:lnTo>
                  <a:pt x="1012" y="401"/>
                </a:lnTo>
                <a:lnTo>
                  <a:pt x="1012" y="0"/>
                </a:lnTo>
                <a:lnTo>
                  <a:pt x="337" y="0"/>
                </a:lnTo>
              </a:path>
            </a:pathLst>
          </a:custGeom>
          <a:solidFill>
            <a:srgbClr val="79a4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2560" y="139680"/>
            <a:ext cx="7626240" cy="8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611280" y="1484280"/>
          <a:ext cx="8175240" cy="5160600"/>
        </p:xfrm>
        <a:graphic>
          <a:graphicData uri="http://schemas.openxmlformats.org/drawingml/2006/table">
            <a:tbl>
              <a:tblPr/>
              <a:tblGrid>
                <a:gridCol w="1873440"/>
                <a:gridCol w="3240720"/>
                <a:gridCol w="3061080"/>
              </a:tblGrid>
              <a:tr h="104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c4a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установлены Налоговым кодексом РФ и обязательны к уплате на всей территории Российской Федер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c4a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28600" indent="-227160">
                        <a:lnSpc>
                          <a:spcPct val="83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 на добавленную стоим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28600" indent="-227160">
                        <a:lnSpc>
                          <a:spcPct val="83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28600" indent="-227160">
                        <a:lnSpc>
                          <a:spcPct val="83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28600" indent="-227160">
                        <a:lnSpc>
                          <a:spcPct val="83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 на прибыль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28600" indent="-227160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bc4ae"/>
                    </a:solidFill>
                  </a:tcPr>
                </a:tc>
              </a:tr>
              <a:tr h="118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иона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установлены Налоговым кодексом РФ  и законами субъектов Российской Федерации и обязательны к уплате на территориях соответствующих субъектов Р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28600" indent="-227160">
                        <a:lnSpc>
                          <a:spcPct val="83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 на имущество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28600" indent="-227160">
                        <a:lnSpc>
                          <a:spcPct val="83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порт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37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c4a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установлены Налоговым кодексом РФ и нормативными правовыми актами представительных органов муниципальных образований и обязательны к уплате на территориях соответствующих муниципальных образова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c4a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28600" indent="-227160">
                        <a:lnSpc>
                          <a:spcPct val="83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28600" indent="-227160">
                        <a:lnSpc>
                          <a:spcPct val="83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 на имущество физических лиц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bc4ae"/>
                    </a:solidFill>
                  </a:tcPr>
                </a:tc>
              </a:tr>
              <a:tr h="1554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иальные налоговые режи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установлены Налоговым кодексом РФ и обязательны к уплате на всей территории Российской Федер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28600" indent="-227160">
                        <a:lnSpc>
                          <a:spcPct val="83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а налогообложения для сельскохозяйственных товаропроизводителей (ЕСХ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28600" indent="-227160">
                        <a:lnSpc>
                          <a:spcPct val="83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ощенная система налогообло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28600" indent="-227160">
                        <a:lnSpc>
                          <a:spcPct val="83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тентная система налогообло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42880" y="189000"/>
            <a:ext cx="8277120" cy="804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55640" y="1236600"/>
            <a:ext cx="2160720" cy="75240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Август-сентябрь 2024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1236600"/>
            <a:ext cx="5553000" cy="752400"/>
          </a:xfrm>
          <a:custGeom>
            <a:avLst/>
            <a:gdLst/>
            <a:ahLst/>
            <a:rect l="l" t="t" r="r" b="b"/>
            <a:pathLst>
              <a:path w="15425" h="2091">
                <a:moveTo>
                  <a:pt x="5402" y="0"/>
                </a:moveTo>
                <a:lnTo>
                  <a:pt x="15425" y="0"/>
                </a:lnTo>
                <a:lnTo>
                  <a:pt x="15425" y="2091"/>
                </a:lnTo>
                <a:lnTo>
                  <a:pt x="5402" y="2091"/>
                </a:lnTo>
                <a:lnTo>
                  <a:pt x="5402" y="1306"/>
                </a:lnTo>
                <a:lnTo>
                  <a:pt x="522" y="1306"/>
                </a:lnTo>
                <a:lnTo>
                  <a:pt x="522" y="1568"/>
                </a:lnTo>
                <a:lnTo>
                  <a:pt x="0" y="1045"/>
                </a:lnTo>
                <a:lnTo>
                  <a:pt x="522" y="522"/>
                </a:lnTo>
                <a:lnTo>
                  <a:pt x="522" y="784"/>
                </a:lnTo>
                <a:lnTo>
                  <a:pt x="5402" y="784"/>
                </a:lnTo>
                <a:lnTo>
                  <a:pt x="5402" y="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Согласование расчетов с Министерством финансов Свердловской области (оценка)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9" name=""/>
          <p:cNvSpPr/>
          <p:nvPr/>
        </p:nvSpPr>
        <p:spPr>
          <a:xfrm>
            <a:off x="755640" y="2241720"/>
            <a:ext cx="2160720" cy="556920"/>
          </a:xfrm>
          <a:prstGeom prst="rect">
            <a:avLst/>
          </a:prstGeom>
          <a:solidFill>
            <a:srgbClr val="fec67a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Октябрь 2024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2241720"/>
            <a:ext cx="5553000" cy="863280"/>
          </a:xfrm>
          <a:custGeom>
            <a:avLst/>
            <a:gdLst/>
            <a:ahLst/>
            <a:rect l="l" t="t" r="r" b="b"/>
            <a:pathLst>
              <a:path w="15425" h="2399">
                <a:moveTo>
                  <a:pt x="5402" y="0"/>
                </a:moveTo>
                <a:lnTo>
                  <a:pt x="15425" y="0"/>
                </a:lnTo>
                <a:lnTo>
                  <a:pt x="15425" y="2399"/>
                </a:lnTo>
                <a:lnTo>
                  <a:pt x="5402" y="2399"/>
                </a:lnTo>
                <a:lnTo>
                  <a:pt x="5402" y="1499"/>
                </a:lnTo>
                <a:lnTo>
                  <a:pt x="599" y="1499"/>
                </a:lnTo>
                <a:lnTo>
                  <a:pt x="599" y="1799"/>
                </a:lnTo>
                <a:lnTo>
                  <a:pt x="0" y="1199"/>
                </a:lnTo>
                <a:lnTo>
                  <a:pt x="599" y="599"/>
                </a:lnTo>
                <a:lnTo>
                  <a:pt x="599" y="899"/>
                </a:lnTo>
                <a:lnTo>
                  <a:pt x="5402" y="899"/>
                </a:lnTo>
                <a:lnTo>
                  <a:pt x="5402" y="0"/>
                </a:lnTo>
              </a:path>
            </a:pathLst>
          </a:custGeom>
          <a:solidFill>
            <a:srgbClr val="fec67a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Согласование расчетов с главными распорядителями бюджетных средств. Работа согласительных комиссий.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1" name=""/>
          <p:cNvSpPr/>
          <p:nvPr/>
        </p:nvSpPr>
        <p:spPr>
          <a:xfrm>
            <a:off x="755640" y="3105000"/>
            <a:ext cx="2160720" cy="648000"/>
          </a:xfrm>
          <a:prstGeom prst="rect">
            <a:avLst/>
          </a:prstGeom>
          <a:solidFill>
            <a:srgbClr val="ff67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Ноябрь 2024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2" name=""/>
          <p:cNvSpPr/>
          <p:nvPr/>
        </p:nvSpPr>
        <p:spPr>
          <a:xfrm>
            <a:off x="2916360" y="3105000"/>
            <a:ext cx="5553000" cy="648000"/>
          </a:xfrm>
          <a:custGeom>
            <a:avLst/>
            <a:gdLst/>
            <a:ahLst/>
            <a:rect l="l" t="t" r="r" b="b"/>
            <a:pathLst>
              <a:path w="15425" h="1800">
                <a:moveTo>
                  <a:pt x="5402" y="0"/>
                </a:moveTo>
                <a:lnTo>
                  <a:pt x="15425" y="0"/>
                </a:lnTo>
                <a:lnTo>
                  <a:pt x="15425" y="1800"/>
                </a:lnTo>
                <a:lnTo>
                  <a:pt x="5402" y="1800"/>
                </a:lnTo>
                <a:lnTo>
                  <a:pt x="5402" y="1125"/>
                </a:lnTo>
                <a:lnTo>
                  <a:pt x="449" y="1125"/>
                </a:lnTo>
                <a:lnTo>
                  <a:pt x="449" y="1350"/>
                </a:lnTo>
                <a:lnTo>
                  <a:pt x="0" y="900"/>
                </a:lnTo>
                <a:lnTo>
                  <a:pt x="449" y="450"/>
                </a:lnTo>
                <a:lnTo>
                  <a:pt x="449" y="675"/>
                </a:lnTo>
                <a:lnTo>
                  <a:pt x="5402" y="675"/>
                </a:lnTo>
                <a:lnTo>
                  <a:pt x="5402" y="0"/>
                </a:lnTo>
              </a:path>
            </a:pathLst>
          </a:custGeom>
          <a:solidFill>
            <a:srgbClr val="ff67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одготовка проекта о бюджете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4040280"/>
            <a:ext cx="2160720" cy="541080"/>
          </a:xfrm>
          <a:prstGeom prst="rect">
            <a:avLst/>
          </a:prstGeom>
          <a:solidFill>
            <a:srgbClr val="cc99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Не позднее 15 ноября 2024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4" name=""/>
          <p:cNvSpPr/>
          <p:nvPr/>
        </p:nvSpPr>
        <p:spPr>
          <a:xfrm>
            <a:off x="2916360" y="4041720"/>
            <a:ext cx="5553000" cy="647640"/>
          </a:xfrm>
          <a:custGeom>
            <a:avLst/>
            <a:gdLst/>
            <a:ahLst/>
            <a:rect l="l" t="t" r="r" b="b"/>
            <a:pathLst>
              <a:path w="15425" h="1800">
                <a:moveTo>
                  <a:pt x="5402" y="0"/>
                </a:moveTo>
                <a:lnTo>
                  <a:pt x="15425" y="0"/>
                </a:lnTo>
                <a:lnTo>
                  <a:pt x="15425" y="1800"/>
                </a:lnTo>
                <a:lnTo>
                  <a:pt x="5402" y="1800"/>
                </a:lnTo>
                <a:lnTo>
                  <a:pt x="5402" y="1125"/>
                </a:lnTo>
                <a:lnTo>
                  <a:pt x="449" y="1125"/>
                </a:lnTo>
                <a:lnTo>
                  <a:pt x="449" y="1350"/>
                </a:lnTo>
                <a:lnTo>
                  <a:pt x="0" y="900"/>
                </a:lnTo>
                <a:lnTo>
                  <a:pt x="449" y="450"/>
                </a:lnTo>
                <a:lnTo>
                  <a:pt x="449" y="675"/>
                </a:lnTo>
                <a:lnTo>
                  <a:pt x="5402" y="675"/>
                </a:lnTo>
                <a:lnTo>
                  <a:pt x="5402" y="0"/>
                </a:lnTo>
              </a:path>
            </a:pathLst>
          </a:custGeom>
          <a:solidFill>
            <a:srgbClr val="cc99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Внесение проекта решения о бюджете в Думу Байкаловского сельского поселения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4869000"/>
            <a:ext cx="2160720" cy="863640"/>
          </a:xfrm>
          <a:prstGeom prst="rect">
            <a:avLst/>
          </a:prstGeom>
          <a:solidFill>
            <a:srgbClr val="0099cc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Декабрь 2024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6" name=""/>
          <p:cNvSpPr/>
          <p:nvPr/>
        </p:nvSpPr>
        <p:spPr>
          <a:xfrm>
            <a:off x="2916360" y="4869000"/>
            <a:ext cx="5553000" cy="863640"/>
          </a:xfrm>
          <a:custGeom>
            <a:avLst/>
            <a:gdLst/>
            <a:ahLst/>
            <a:rect l="l" t="t" r="r" b="b"/>
            <a:pathLst>
              <a:path w="15425" h="2400">
                <a:moveTo>
                  <a:pt x="5402" y="0"/>
                </a:moveTo>
                <a:lnTo>
                  <a:pt x="15425" y="0"/>
                </a:lnTo>
                <a:lnTo>
                  <a:pt x="15425" y="2400"/>
                </a:lnTo>
                <a:lnTo>
                  <a:pt x="5402" y="2400"/>
                </a:lnTo>
                <a:lnTo>
                  <a:pt x="5402" y="1500"/>
                </a:lnTo>
                <a:lnTo>
                  <a:pt x="599" y="1500"/>
                </a:lnTo>
                <a:lnTo>
                  <a:pt x="599" y="1800"/>
                </a:lnTo>
                <a:lnTo>
                  <a:pt x="0" y="1200"/>
                </a:lnTo>
                <a:lnTo>
                  <a:pt x="599" y="600"/>
                </a:lnTo>
                <a:lnTo>
                  <a:pt x="599" y="900"/>
                </a:lnTo>
                <a:lnTo>
                  <a:pt x="5402" y="900"/>
                </a:lnTo>
                <a:lnTo>
                  <a:pt x="5402" y="0"/>
                </a:lnTo>
              </a:path>
            </a:pathLst>
          </a:custGeom>
          <a:solidFill>
            <a:srgbClr val="0099cc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роведение публичных слушаний. Принятие Думой Байкаловского сельского поселения решения о бюджете. Подписание решения о бюджете Главой Байкаловского сельского поселения</a:t>
            </a:r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5913360"/>
            <a:ext cx="2160720" cy="719280"/>
          </a:xfrm>
          <a:prstGeom prst="rect">
            <a:avLst/>
          </a:prstGeom>
          <a:solidFill>
            <a:srgbClr val="99cc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С 1 января 2025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8" name=""/>
          <p:cNvSpPr/>
          <p:nvPr/>
        </p:nvSpPr>
        <p:spPr>
          <a:xfrm>
            <a:off x="2916360" y="5913360"/>
            <a:ext cx="5553000" cy="660600"/>
          </a:xfrm>
          <a:custGeom>
            <a:avLst/>
            <a:gdLst/>
            <a:ahLst/>
            <a:rect l="l" t="t" r="r" b="b"/>
            <a:pathLst>
              <a:path w="15425" h="1836">
                <a:moveTo>
                  <a:pt x="5402" y="0"/>
                </a:moveTo>
                <a:lnTo>
                  <a:pt x="15425" y="0"/>
                </a:lnTo>
                <a:lnTo>
                  <a:pt x="15425" y="1836"/>
                </a:lnTo>
                <a:lnTo>
                  <a:pt x="5402" y="1836"/>
                </a:lnTo>
                <a:lnTo>
                  <a:pt x="5402" y="1147"/>
                </a:lnTo>
                <a:lnTo>
                  <a:pt x="458" y="1147"/>
                </a:lnTo>
                <a:lnTo>
                  <a:pt x="458" y="1377"/>
                </a:lnTo>
                <a:lnTo>
                  <a:pt x="0" y="918"/>
                </a:lnTo>
                <a:lnTo>
                  <a:pt x="458" y="459"/>
                </a:lnTo>
                <a:lnTo>
                  <a:pt x="458" y="688"/>
                </a:lnTo>
                <a:lnTo>
                  <a:pt x="5402" y="688"/>
                </a:lnTo>
                <a:lnTo>
                  <a:pt x="5402" y="0"/>
                </a:lnTo>
              </a:path>
            </a:pathLst>
          </a:custGeom>
          <a:solidFill>
            <a:srgbClr val="99cc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Исполнение бюджета Байкаловского сельского поселения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006560" y="5821200"/>
            <a:ext cx="7515000" cy="871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50920" y="189000"/>
            <a:ext cx="889308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Каждый житель Байкаловского сельского поселения может принять участие во внесение предложений по проекту бюджета Байкаловского сельского поселения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1" name=""/>
          <p:cNvSpPr/>
          <p:nvPr/>
        </p:nvSpPr>
        <p:spPr>
          <a:xfrm>
            <a:off x="503280" y="1341360"/>
            <a:ext cx="1887480" cy="2016360"/>
          </a:xfrm>
          <a:custGeom>
            <a:avLst/>
            <a:gdLst/>
            <a:ahLst/>
            <a:rect l="l" t="t" r="r" b="b"/>
            <a:pathLst>
              <a:path w="5244" h="5602">
                <a:moveTo>
                  <a:pt x="874" y="0"/>
                </a:moveTo>
                <a:lnTo>
                  <a:pt x="874" y="0"/>
                </a:lnTo>
                <a:cubicBezTo>
                  <a:pt x="721" y="0"/>
                  <a:pt x="570" y="40"/>
                  <a:pt x="437" y="117"/>
                </a:cubicBezTo>
                <a:cubicBezTo>
                  <a:pt x="304" y="194"/>
                  <a:pt x="194" y="304"/>
                  <a:pt x="117" y="437"/>
                </a:cubicBezTo>
                <a:cubicBezTo>
                  <a:pt x="40" y="570"/>
                  <a:pt x="0" y="721"/>
                  <a:pt x="0" y="874"/>
                </a:cubicBezTo>
                <a:lnTo>
                  <a:pt x="0" y="4728"/>
                </a:lnTo>
                <a:lnTo>
                  <a:pt x="0" y="4728"/>
                </a:lnTo>
                <a:cubicBezTo>
                  <a:pt x="0" y="4881"/>
                  <a:pt x="40" y="5032"/>
                  <a:pt x="117" y="5165"/>
                </a:cubicBezTo>
                <a:cubicBezTo>
                  <a:pt x="194" y="5298"/>
                  <a:pt x="304" y="5408"/>
                  <a:pt x="437" y="5485"/>
                </a:cubicBezTo>
                <a:cubicBezTo>
                  <a:pt x="570" y="5562"/>
                  <a:pt x="721" y="5602"/>
                  <a:pt x="874" y="5602"/>
                </a:cubicBezTo>
                <a:lnTo>
                  <a:pt x="4370" y="5602"/>
                </a:lnTo>
                <a:lnTo>
                  <a:pt x="4370" y="5602"/>
                </a:lnTo>
                <a:cubicBezTo>
                  <a:pt x="4523" y="5602"/>
                  <a:pt x="4674" y="5562"/>
                  <a:pt x="4807" y="5485"/>
                </a:cubicBezTo>
                <a:cubicBezTo>
                  <a:pt x="4940" y="5408"/>
                  <a:pt x="5050" y="5298"/>
                  <a:pt x="5127" y="5165"/>
                </a:cubicBezTo>
                <a:cubicBezTo>
                  <a:pt x="5204" y="5032"/>
                  <a:pt x="5244" y="4881"/>
                  <a:pt x="5244" y="4728"/>
                </a:cubicBezTo>
                <a:lnTo>
                  <a:pt x="5244" y="873"/>
                </a:lnTo>
                <a:lnTo>
                  <a:pt x="5244" y="874"/>
                </a:lnTo>
                <a:lnTo>
                  <a:pt x="5244" y="874"/>
                </a:lnTo>
                <a:cubicBezTo>
                  <a:pt x="5244" y="721"/>
                  <a:pt x="5204" y="570"/>
                  <a:pt x="5127" y="437"/>
                </a:cubicBezTo>
                <a:cubicBezTo>
                  <a:pt x="5050" y="304"/>
                  <a:pt x="4940" y="194"/>
                  <a:pt x="4807" y="117"/>
                </a:cubicBezTo>
                <a:cubicBezTo>
                  <a:pt x="4674" y="40"/>
                  <a:pt x="4523" y="0"/>
                  <a:pt x="4370" y="0"/>
                </a:cubicBezTo>
                <a:lnTo>
                  <a:pt x="874" y="0"/>
                </a:lnTo>
              </a:path>
            </a:pathLst>
          </a:custGeom>
          <a:solidFill>
            <a:srgbClr val="6c6f4c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Объявление в средствах массовой информации о проведении Публичных слушаний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2" name=""/>
          <p:cNvSpPr/>
          <p:nvPr/>
        </p:nvSpPr>
        <p:spPr>
          <a:xfrm>
            <a:off x="503280" y="3500280"/>
            <a:ext cx="2016000" cy="2124360"/>
          </a:xfrm>
          <a:custGeom>
            <a:avLst/>
            <a:gdLst/>
            <a:ahLst/>
            <a:rect l="l" t="t" r="r" b="b"/>
            <a:pathLst>
              <a:path w="5601" h="5902">
                <a:moveTo>
                  <a:pt x="933" y="0"/>
                </a:moveTo>
                <a:lnTo>
                  <a:pt x="934" y="0"/>
                </a:lnTo>
                <a:cubicBezTo>
                  <a:pt x="770" y="0"/>
                  <a:pt x="609" y="43"/>
                  <a:pt x="467" y="125"/>
                </a:cubicBezTo>
                <a:cubicBezTo>
                  <a:pt x="325" y="207"/>
                  <a:pt x="207" y="325"/>
                  <a:pt x="125" y="467"/>
                </a:cubicBezTo>
                <a:cubicBezTo>
                  <a:pt x="43" y="609"/>
                  <a:pt x="0" y="770"/>
                  <a:pt x="0" y="934"/>
                </a:cubicBezTo>
                <a:lnTo>
                  <a:pt x="0" y="4968"/>
                </a:lnTo>
                <a:lnTo>
                  <a:pt x="0" y="4969"/>
                </a:lnTo>
                <a:cubicBezTo>
                  <a:pt x="0" y="5132"/>
                  <a:pt x="43" y="5293"/>
                  <a:pt x="125" y="5435"/>
                </a:cubicBezTo>
                <a:cubicBezTo>
                  <a:pt x="207" y="5577"/>
                  <a:pt x="325" y="5695"/>
                  <a:pt x="467" y="5777"/>
                </a:cubicBezTo>
                <a:cubicBezTo>
                  <a:pt x="609" y="5859"/>
                  <a:pt x="770" y="5902"/>
                  <a:pt x="934" y="5902"/>
                </a:cubicBezTo>
                <a:lnTo>
                  <a:pt x="4667" y="5901"/>
                </a:lnTo>
                <a:lnTo>
                  <a:pt x="4668" y="5902"/>
                </a:lnTo>
                <a:cubicBezTo>
                  <a:pt x="4831" y="5902"/>
                  <a:pt x="4992" y="5859"/>
                  <a:pt x="5134" y="5777"/>
                </a:cubicBezTo>
                <a:cubicBezTo>
                  <a:pt x="5276" y="5695"/>
                  <a:pt x="5394" y="5577"/>
                  <a:pt x="5476" y="5435"/>
                </a:cubicBezTo>
                <a:cubicBezTo>
                  <a:pt x="5558" y="5293"/>
                  <a:pt x="5601" y="5132"/>
                  <a:pt x="5601" y="4969"/>
                </a:cubicBezTo>
                <a:lnTo>
                  <a:pt x="5601" y="933"/>
                </a:lnTo>
                <a:lnTo>
                  <a:pt x="5601" y="934"/>
                </a:lnTo>
                <a:lnTo>
                  <a:pt x="5601" y="934"/>
                </a:lnTo>
                <a:cubicBezTo>
                  <a:pt x="5601" y="770"/>
                  <a:pt x="5558" y="609"/>
                  <a:pt x="5476" y="467"/>
                </a:cubicBezTo>
                <a:cubicBezTo>
                  <a:pt x="5394" y="325"/>
                  <a:pt x="5276" y="207"/>
                  <a:pt x="5134" y="125"/>
                </a:cubicBezTo>
                <a:cubicBezTo>
                  <a:pt x="4992" y="43"/>
                  <a:pt x="4831" y="0"/>
                  <a:pt x="4668" y="0"/>
                </a:cubicBezTo>
                <a:lnTo>
                  <a:pt x="933" y="0"/>
                </a:lnTo>
              </a:path>
            </a:pathLst>
          </a:custGeom>
          <a:solidFill>
            <a:srgbClr val="4a63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Так же информация размещена на официальном сайте Байкаловского сельского поселения в сети интернет (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  <a:ea typeface="DejaVu Sans"/>
              </a:rPr>
              <a:t>www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.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  <a:ea typeface="DejaVu Sans"/>
              </a:rPr>
              <a:t>bsposelenie.ru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3" name=""/>
          <p:cNvSpPr/>
          <p:nvPr/>
        </p:nvSpPr>
        <p:spPr>
          <a:xfrm>
            <a:off x="4211640" y="1214280"/>
            <a:ext cx="1873080" cy="1692360"/>
          </a:xfrm>
          <a:custGeom>
            <a:avLst/>
            <a:gdLst/>
            <a:ahLst/>
            <a:rect l="l" t="t" r="r" b="b"/>
            <a:pathLst>
              <a:path w="5204" h="4702">
                <a:moveTo>
                  <a:pt x="783" y="0"/>
                </a:moveTo>
                <a:lnTo>
                  <a:pt x="784" y="0"/>
                </a:lnTo>
                <a:cubicBezTo>
                  <a:pt x="646" y="0"/>
                  <a:pt x="511" y="36"/>
                  <a:pt x="392" y="105"/>
                </a:cubicBezTo>
                <a:cubicBezTo>
                  <a:pt x="273" y="174"/>
                  <a:pt x="174" y="273"/>
                  <a:pt x="105" y="392"/>
                </a:cubicBezTo>
                <a:cubicBezTo>
                  <a:pt x="36" y="511"/>
                  <a:pt x="0" y="646"/>
                  <a:pt x="0" y="784"/>
                </a:cubicBezTo>
                <a:lnTo>
                  <a:pt x="0" y="3918"/>
                </a:lnTo>
                <a:lnTo>
                  <a:pt x="0" y="3918"/>
                </a:lnTo>
                <a:cubicBezTo>
                  <a:pt x="0" y="4056"/>
                  <a:pt x="36" y="4191"/>
                  <a:pt x="105" y="4310"/>
                </a:cubicBezTo>
                <a:cubicBezTo>
                  <a:pt x="174" y="4429"/>
                  <a:pt x="273" y="4528"/>
                  <a:pt x="392" y="4597"/>
                </a:cubicBezTo>
                <a:cubicBezTo>
                  <a:pt x="511" y="4666"/>
                  <a:pt x="646" y="4702"/>
                  <a:pt x="784" y="4702"/>
                </a:cubicBezTo>
                <a:lnTo>
                  <a:pt x="4420" y="4702"/>
                </a:lnTo>
                <a:lnTo>
                  <a:pt x="4420" y="4702"/>
                </a:lnTo>
                <a:cubicBezTo>
                  <a:pt x="4558" y="4702"/>
                  <a:pt x="4693" y="4666"/>
                  <a:pt x="4812" y="4597"/>
                </a:cubicBezTo>
                <a:cubicBezTo>
                  <a:pt x="4931" y="4528"/>
                  <a:pt x="5030" y="4429"/>
                  <a:pt x="5099" y="4310"/>
                </a:cubicBezTo>
                <a:cubicBezTo>
                  <a:pt x="5168" y="4191"/>
                  <a:pt x="5204" y="4056"/>
                  <a:pt x="5204" y="3918"/>
                </a:cubicBezTo>
                <a:lnTo>
                  <a:pt x="5204" y="783"/>
                </a:lnTo>
                <a:lnTo>
                  <a:pt x="5204" y="784"/>
                </a:lnTo>
                <a:lnTo>
                  <a:pt x="5204" y="784"/>
                </a:lnTo>
                <a:cubicBezTo>
                  <a:pt x="5204" y="646"/>
                  <a:pt x="5168" y="511"/>
                  <a:pt x="5099" y="392"/>
                </a:cubicBezTo>
                <a:cubicBezTo>
                  <a:pt x="5030" y="273"/>
                  <a:pt x="4931" y="174"/>
                  <a:pt x="4812" y="105"/>
                </a:cubicBezTo>
                <a:cubicBezTo>
                  <a:pt x="4693" y="36"/>
                  <a:pt x="4558" y="0"/>
                  <a:pt x="4420" y="0"/>
                </a:cubicBezTo>
                <a:lnTo>
                  <a:pt x="783" y="0"/>
                </a:lnTo>
              </a:path>
            </a:pathLst>
          </a:custGeom>
          <a:solidFill>
            <a:srgbClr val="6c6f4c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Внесение предложений по проекту бюджета на Публичные слушания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4" name=""/>
          <p:cNvSpPr/>
          <p:nvPr/>
        </p:nvSpPr>
        <p:spPr>
          <a:xfrm>
            <a:off x="7164360" y="1341360"/>
            <a:ext cx="1584360" cy="1692360"/>
          </a:xfrm>
          <a:custGeom>
            <a:avLst/>
            <a:gdLst/>
            <a:ahLst/>
            <a:rect l="l" t="t" r="r" b="b"/>
            <a:pathLst>
              <a:path w="4402" h="4702">
                <a:moveTo>
                  <a:pt x="733" y="0"/>
                </a:moveTo>
                <a:lnTo>
                  <a:pt x="734" y="0"/>
                </a:lnTo>
                <a:cubicBezTo>
                  <a:pt x="605" y="0"/>
                  <a:pt x="478" y="34"/>
                  <a:pt x="367" y="98"/>
                </a:cubicBezTo>
                <a:cubicBezTo>
                  <a:pt x="255" y="163"/>
                  <a:pt x="163" y="255"/>
                  <a:pt x="98" y="367"/>
                </a:cubicBezTo>
                <a:cubicBezTo>
                  <a:pt x="34" y="478"/>
                  <a:pt x="0" y="605"/>
                  <a:pt x="0" y="734"/>
                </a:cubicBezTo>
                <a:lnTo>
                  <a:pt x="0" y="3968"/>
                </a:lnTo>
                <a:lnTo>
                  <a:pt x="0" y="3968"/>
                </a:lnTo>
                <a:cubicBezTo>
                  <a:pt x="0" y="4097"/>
                  <a:pt x="34" y="4224"/>
                  <a:pt x="98" y="4335"/>
                </a:cubicBezTo>
                <a:cubicBezTo>
                  <a:pt x="163" y="4447"/>
                  <a:pt x="255" y="4539"/>
                  <a:pt x="367" y="4604"/>
                </a:cubicBezTo>
                <a:cubicBezTo>
                  <a:pt x="478" y="4668"/>
                  <a:pt x="605" y="4702"/>
                  <a:pt x="734" y="4702"/>
                </a:cubicBezTo>
                <a:lnTo>
                  <a:pt x="3668" y="4702"/>
                </a:lnTo>
                <a:lnTo>
                  <a:pt x="3668" y="4702"/>
                </a:lnTo>
                <a:cubicBezTo>
                  <a:pt x="3797" y="4702"/>
                  <a:pt x="3924" y="4668"/>
                  <a:pt x="4035" y="4604"/>
                </a:cubicBezTo>
                <a:cubicBezTo>
                  <a:pt x="4147" y="4539"/>
                  <a:pt x="4239" y="4447"/>
                  <a:pt x="4304" y="4335"/>
                </a:cubicBezTo>
                <a:cubicBezTo>
                  <a:pt x="4368" y="4224"/>
                  <a:pt x="4402" y="4097"/>
                  <a:pt x="4402" y="3968"/>
                </a:cubicBezTo>
                <a:lnTo>
                  <a:pt x="4402" y="733"/>
                </a:lnTo>
                <a:lnTo>
                  <a:pt x="4402" y="734"/>
                </a:lnTo>
                <a:lnTo>
                  <a:pt x="4402" y="734"/>
                </a:lnTo>
                <a:cubicBezTo>
                  <a:pt x="4402" y="605"/>
                  <a:pt x="4368" y="478"/>
                  <a:pt x="4304" y="367"/>
                </a:cubicBezTo>
                <a:cubicBezTo>
                  <a:pt x="4239" y="255"/>
                  <a:pt x="4147" y="163"/>
                  <a:pt x="4035" y="98"/>
                </a:cubicBezTo>
                <a:cubicBezTo>
                  <a:pt x="3924" y="34"/>
                  <a:pt x="3797" y="0"/>
                  <a:pt x="3668" y="0"/>
                </a:cubicBezTo>
                <a:lnTo>
                  <a:pt x="733" y="0"/>
                </a:lnTo>
              </a:path>
            </a:pathLst>
          </a:custGeom>
          <a:solidFill>
            <a:srgbClr val="6c6f4c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Регистрация перед началом проведения и участия в Публичных слушаниях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5" name=""/>
          <p:cNvSpPr/>
          <p:nvPr/>
        </p:nvSpPr>
        <p:spPr>
          <a:xfrm>
            <a:off x="4319640" y="3500280"/>
            <a:ext cx="1765080" cy="433440"/>
          </a:xfrm>
          <a:custGeom>
            <a:avLst/>
            <a:gdLst/>
            <a:ahLst/>
            <a:rect l="l" t="t" r="r" b="b"/>
            <a:pathLst>
              <a:path w="4904" h="1205">
                <a:moveTo>
                  <a:pt x="200" y="0"/>
                </a:moveTo>
                <a:lnTo>
                  <a:pt x="201" y="0"/>
                </a:lnTo>
                <a:cubicBezTo>
                  <a:pt x="166" y="0"/>
                  <a:pt x="131" y="9"/>
                  <a:pt x="100" y="27"/>
                </a:cubicBezTo>
                <a:cubicBezTo>
                  <a:pt x="70" y="45"/>
                  <a:pt x="45" y="70"/>
                  <a:pt x="27" y="100"/>
                </a:cubicBezTo>
                <a:cubicBezTo>
                  <a:pt x="9" y="131"/>
                  <a:pt x="0" y="166"/>
                  <a:pt x="0" y="201"/>
                </a:cubicBezTo>
                <a:lnTo>
                  <a:pt x="0" y="1004"/>
                </a:lnTo>
                <a:lnTo>
                  <a:pt x="0" y="1004"/>
                </a:lnTo>
                <a:cubicBezTo>
                  <a:pt x="0" y="1039"/>
                  <a:pt x="9" y="1074"/>
                  <a:pt x="27" y="1105"/>
                </a:cubicBezTo>
                <a:cubicBezTo>
                  <a:pt x="45" y="1135"/>
                  <a:pt x="70" y="1160"/>
                  <a:pt x="100" y="1178"/>
                </a:cubicBezTo>
                <a:cubicBezTo>
                  <a:pt x="131" y="1196"/>
                  <a:pt x="166" y="1205"/>
                  <a:pt x="201" y="1205"/>
                </a:cubicBezTo>
                <a:lnTo>
                  <a:pt x="4703" y="1205"/>
                </a:lnTo>
                <a:lnTo>
                  <a:pt x="4703" y="1205"/>
                </a:lnTo>
                <a:cubicBezTo>
                  <a:pt x="4738" y="1205"/>
                  <a:pt x="4773" y="1196"/>
                  <a:pt x="4804" y="1178"/>
                </a:cubicBezTo>
                <a:cubicBezTo>
                  <a:pt x="4834" y="1160"/>
                  <a:pt x="4859" y="1135"/>
                  <a:pt x="4877" y="1105"/>
                </a:cubicBezTo>
                <a:cubicBezTo>
                  <a:pt x="4895" y="1074"/>
                  <a:pt x="4904" y="1039"/>
                  <a:pt x="4904" y="1004"/>
                </a:cubicBezTo>
                <a:lnTo>
                  <a:pt x="4904" y="200"/>
                </a:lnTo>
                <a:lnTo>
                  <a:pt x="4904" y="201"/>
                </a:lnTo>
                <a:lnTo>
                  <a:pt x="4904" y="201"/>
                </a:lnTo>
                <a:cubicBezTo>
                  <a:pt x="4904" y="166"/>
                  <a:pt x="4895" y="131"/>
                  <a:pt x="4877" y="100"/>
                </a:cubicBezTo>
                <a:cubicBezTo>
                  <a:pt x="4859" y="70"/>
                  <a:pt x="4834" y="45"/>
                  <a:pt x="4804" y="27"/>
                </a:cubicBezTo>
                <a:cubicBezTo>
                  <a:pt x="4773" y="9"/>
                  <a:pt x="4738" y="0"/>
                  <a:pt x="4703" y="0"/>
                </a:cubicBezTo>
                <a:lnTo>
                  <a:pt x="200" y="0"/>
                </a:lnTo>
              </a:path>
            </a:pathLst>
          </a:custGeom>
          <a:solidFill>
            <a:srgbClr val="4a6300"/>
          </a:solidFill>
          <a:ln w="255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Не обязательно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6" name=""/>
          <p:cNvSpPr/>
          <p:nvPr/>
        </p:nvSpPr>
        <p:spPr>
          <a:xfrm>
            <a:off x="2519280" y="2060640"/>
            <a:ext cx="1590840" cy="611280"/>
          </a:xfrm>
          <a:custGeom>
            <a:avLst/>
            <a:gdLst/>
            <a:ahLst/>
            <a:rect l="l" t="t" r="r" b="b"/>
            <a:pathLst>
              <a:path w="4420" h="1699">
                <a:moveTo>
                  <a:pt x="0" y="424"/>
                </a:moveTo>
                <a:lnTo>
                  <a:pt x="3570" y="424"/>
                </a:lnTo>
                <a:lnTo>
                  <a:pt x="3570" y="0"/>
                </a:lnTo>
                <a:lnTo>
                  <a:pt x="4420" y="849"/>
                </a:lnTo>
                <a:lnTo>
                  <a:pt x="3570" y="1699"/>
                </a:lnTo>
                <a:lnTo>
                  <a:pt x="3570" y="1274"/>
                </a:lnTo>
                <a:lnTo>
                  <a:pt x="0" y="1274"/>
                </a:lnTo>
                <a:lnTo>
                  <a:pt x="0" y="424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7" name=""/>
          <p:cNvSpPr/>
          <p:nvPr/>
        </p:nvSpPr>
        <p:spPr>
          <a:xfrm>
            <a:off x="6227640" y="2060640"/>
            <a:ext cx="936720" cy="611280"/>
          </a:xfrm>
          <a:custGeom>
            <a:avLst/>
            <a:gdLst/>
            <a:ahLst/>
            <a:rect l="l" t="t" r="r" b="b"/>
            <a:pathLst>
              <a:path w="2603" h="1699">
                <a:moveTo>
                  <a:pt x="0" y="424"/>
                </a:moveTo>
                <a:lnTo>
                  <a:pt x="1753" y="424"/>
                </a:lnTo>
                <a:lnTo>
                  <a:pt x="1753" y="0"/>
                </a:lnTo>
                <a:lnTo>
                  <a:pt x="2603" y="849"/>
                </a:lnTo>
                <a:lnTo>
                  <a:pt x="1753" y="1699"/>
                </a:lnTo>
                <a:lnTo>
                  <a:pt x="1753" y="1274"/>
                </a:lnTo>
                <a:lnTo>
                  <a:pt x="0" y="1274"/>
                </a:lnTo>
                <a:lnTo>
                  <a:pt x="0" y="424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704000" y="3500280"/>
            <a:ext cx="900360" cy="12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-30240"/>
            <a:ext cx="9144000" cy="87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0" y="873000"/>
          <a:ext cx="9100800" cy="5806800"/>
        </p:xfrm>
        <a:graphic>
          <a:graphicData uri="http://schemas.openxmlformats.org/drawingml/2006/table">
            <a:tbl>
              <a:tblPr/>
              <a:tblGrid>
                <a:gridCol w="2576880"/>
                <a:gridCol w="1247760"/>
                <a:gridCol w="1003680"/>
                <a:gridCol w="1076400"/>
                <a:gridCol w="1005120"/>
                <a:gridCol w="1058760"/>
                <a:gridCol w="1132200"/>
              </a:tblGrid>
              <a:tr h="93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диница изме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 фа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гн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гн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7 год прогн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50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рот организаций (по полному кругу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48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15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06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98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274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6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быль прибыльны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0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инвестиций в основной капитал за счет всех источников финанс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7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4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50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лата тру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92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44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98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54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1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душевые доходы населения (в месяц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б./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765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965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281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635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089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39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рот розничной торгов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7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8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1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6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2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54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рот общественного пи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50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енность постоянного населения МО (на начало года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137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09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989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909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826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енность постоянного населения в трудоспособном воз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31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89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49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12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16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49120" y="-49320"/>
            <a:ext cx="8729640" cy="104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227160" y="800280"/>
          <a:ext cx="8775360" cy="5820840"/>
        </p:xfrm>
        <a:graphic>
          <a:graphicData uri="http://schemas.openxmlformats.org/drawingml/2006/table">
            <a:tbl>
              <a:tblPr/>
              <a:tblGrid>
                <a:gridCol w="4705920"/>
                <a:gridCol w="1472040"/>
                <a:gridCol w="1298880"/>
                <a:gridCol w="129852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9 07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6 484 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 47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и не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40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29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76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4 66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2 19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 71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9 07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6 484 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 47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64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95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17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2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6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4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0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94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 52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 45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1 46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3 34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 81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 17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 40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70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0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8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8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11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11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11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массовой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 утвержденные 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4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44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ицит (-), профицит (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680000" y="-17640"/>
            <a:ext cx="1332000" cy="36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C33AF8-C2E6-486A-AC59-B040EC0909ED}" type="slidenum">
              <a:rPr b="1" lang="ru-RU" sz="1200" spc="-1" strike="noStrike">
                <a:solidFill>
                  <a:srgbClr val="d38e27"/>
                </a:solidFill>
                <a:latin typeface="Franklin Gothic Book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4" name=""/>
          <p:cNvSpPr/>
          <p:nvPr/>
        </p:nvSpPr>
        <p:spPr>
          <a:xfrm>
            <a:off x="465120" y="0"/>
            <a:ext cx="82137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d77c01"/>
                </a:solidFill>
                <a:latin typeface="Times New Roman"/>
              </a:rPr>
              <a:t>Основные доходные источники бюджета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31640" y="836640"/>
          <a:ext cx="8096040" cy="5608080"/>
        </p:xfrm>
        <a:graphic>
          <a:graphicData uri="http://schemas.openxmlformats.org/drawingml/2006/table">
            <a:tbl>
              <a:tblPr/>
              <a:tblGrid>
                <a:gridCol w="4104720"/>
                <a:gridCol w="809640"/>
                <a:gridCol w="804600"/>
                <a:gridCol w="805320"/>
                <a:gridCol w="762120"/>
                <a:gridCol w="80964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576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 фа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576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  </a:t>
                      </a:r>
                      <a:br>
                        <a:rPr sz="18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576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576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576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7 год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576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</a:tr>
              <a:tr h="33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овые и неналоговые доходы в т.ч.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576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 61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576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18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576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40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576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29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576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76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576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 на доходы физ.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31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5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39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1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цизы по подакцизным товарам  ( продукции), производимым на территории Р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20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53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55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88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 на имущество физ.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4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мельный нало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71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9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9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9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</a:tr>
              <a:tr h="46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9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7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9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9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продажи материальных и не 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</a:tr>
              <a:tr h="301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рафы, санкции, возмещение ущерб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оказания платных услуг и компенсаций затрат государ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</a:tr>
              <a:tr h="31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неналоговые доходы, в том числе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2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</a:tr>
              <a:tr h="345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ициативные платеж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2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I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9 08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6 29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4 66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2 19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 71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</a:tr>
              <a:tr h="39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доходов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6 69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8 48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9 07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6 48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 47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ea022"/>
                      </a:solidFill>
                    </a:lnL>
                    <a:lnR w="2880">
                      <a:solidFill>
                        <a:srgbClr val="fea022"/>
                      </a:solidFill>
                    </a:lnR>
                    <a:lnT w="2880">
                      <a:solidFill>
                        <a:srgbClr val="fea022"/>
                      </a:solidFill>
                    </a:lnT>
                    <a:lnB w="2880">
                      <a:solidFill>
                        <a:srgbClr val="fea022"/>
                      </a:solidFill>
                    </a:lnB>
                    <a:solidFill>
                      <a:srgbClr val="ffc299"/>
                    </a:solidFill>
                  </a:tcPr>
                </a:tc>
              </a:tr>
            </a:tbl>
          </a:graphicData>
        </a:graphic>
      </p:graphicFrame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80880" y="5465880"/>
            <a:ext cx="352296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115920"/>
            <a:ext cx="873108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Структура доходов бюджета в 2025 году и плановом периоде 2026 и 2027 годов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71440" y="1109520"/>
            <a:ext cx="4237200" cy="28418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319640" y="1341360"/>
            <a:ext cx="4572000" cy="2570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849240" y="3630600"/>
            <a:ext cx="7653240" cy="26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85840" y="274680"/>
            <a:ext cx="8686800" cy="11761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04920" y="1554120"/>
            <a:ext cx="86868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3" name=""/>
          <p:cNvSpPr/>
          <p:nvPr/>
        </p:nvSpPr>
        <p:spPr>
          <a:xfrm rot="1860000">
            <a:off x="1890360" y="1126800"/>
            <a:ext cx="809640" cy="863640"/>
          </a:xfrm>
          <a:custGeom>
            <a:avLst/>
            <a:gdLst/>
            <a:ahLst/>
            <a:rect l="l" t="t" r="r" b="b"/>
            <a:pathLst>
              <a:path w="2250" h="2400">
                <a:moveTo>
                  <a:pt x="560" y="1"/>
                </a:moveTo>
                <a:lnTo>
                  <a:pt x="562" y="1276"/>
                </a:lnTo>
                <a:lnTo>
                  <a:pt x="0" y="1278"/>
                </a:lnTo>
                <a:lnTo>
                  <a:pt x="1127" y="2400"/>
                </a:lnTo>
                <a:lnTo>
                  <a:pt x="2250" y="1274"/>
                </a:lnTo>
                <a:lnTo>
                  <a:pt x="1687" y="1275"/>
                </a:lnTo>
                <a:lnTo>
                  <a:pt x="1685" y="0"/>
                </a:lnTo>
                <a:lnTo>
                  <a:pt x="560" y="1"/>
                </a:lnTo>
              </a:path>
            </a:pathLst>
          </a:custGeom>
          <a:solidFill>
            <a:srgbClr val="8f5201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4" name=""/>
          <p:cNvSpPr/>
          <p:nvPr/>
        </p:nvSpPr>
        <p:spPr>
          <a:xfrm>
            <a:off x="351000" y="1990800"/>
            <a:ext cx="2665080" cy="914400"/>
          </a:xfrm>
          <a:custGeom>
            <a:avLst/>
            <a:gdLst/>
            <a:ahLst/>
            <a:rect l="l" t="t" r="r" b="b"/>
            <a:pathLst>
              <a:path w="3702" h="1270">
                <a:moveTo>
                  <a:pt x="0" y="1270"/>
                </a:moveTo>
                <a:lnTo>
                  <a:pt x="3702" y="1270"/>
                </a:lnTo>
                <a:lnTo>
                  <a:pt x="180" y="90"/>
                </a:lnTo>
                <a:lnTo>
                  <a:pt x="3702" y="1270"/>
                </a:lnTo>
                <a:lnTo>
                  <a:pt x="270" y="90"/>
                </a:lnTo>
                <a:close/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Налоговые доходы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5" name=""/>
          <p:cNvSpPr/>
          <p:nvPr/>
        </p:nvSpPr>
        <p:spPr>
          <a:xfrm>
            <a:off x="4319640" y="1360440"/>
            <a:ext cx="792000" cy="735120"/>
          </a:xfrm>
          <a:custGeom>
            <a:avLst/>
            <a:gdLst/>
            <a:ahLst/>
            <a:rect l="l" t="t" r="r" b="b"/>
            <a:pathLst>
              <a:path w="2201" h="2043">
                <a:moveTo>
                  <a:pt x="550" y="0"/>
                </a:moveTo>
                <a:lnTo>
                  <a:pt x="550" y="1021"/>
                </a:lnTo>
                <a:lnTo>
                  <a:pt x="0" y="1021"/>
                </a:lnTo>
                <a:lnTo>
                  <a:pt x="1100" y="2043"/>
                </a:lnTo>
                <a:lnTo>
                  <a:pt x="2201" y="1021"/>
                </a:lnTo>
                <a:lnTo>
                  <a:pt x="1650" y="1021"/>
                </a:lnTo>
                <a:lnTo>
                  <a:pt x="1650" y="0"/>
                </a:lnTo>
                <a:lnTo>
                  <a:pt x="550" y="0"/>
                </a:lnTo>
              </a:path>
            </a:pathLst>
          </a:custGeom>
          <a:solidFill>
            <a:srgbClr val="8f5201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6" name=""/>
          <p:cNvSpPr/>
          <p:nvPr/>
        </p:nvSpPr>
        <p:spPr>
          <a:xfrm>
            <a:off x="3435480" y="2205000"/>
            <a:ext cx="2627280" cy="914400"/>
          </a:xfrm>
          <a:custGeom>
            <a:avLst/>
            <a:gdLst/>
            <a:ahLst/>
            <a:rect l="l" t="t" r="r" b="b"/>
            <a:pathLst>
              <a:path w="3649" h="1270">
                <a:moveTo>
                  <a:pt x="0" y="1270"/>
                </a:moveTo>
                <a:lnTo>
                  <a:pt x="3649" y="1270"/>
                </a:lnTo>
                <a:lnTo>
                  <a:pt x="180" y="90"/>
                </a:lnTo>
                <a:lnTo>
                  <a:pt x="3649" y="1270"/>
                </a:lnTo>
                <a:lnTo>
                  <a:pt x="270" y="90"/>
                </a:lnTo>
                <a:close/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Неналоговые доходы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7" name=""/>
          <p:cNvSpPr/>
          <p:nvPr/>
        </p:nvSpPr>
        <p:spPr>
          <a:xfrm rot="19260000">
            <a:off x="6740640" y="1083960"/>
            <a:ext cx="733320" cy="877680"/>
          </a:xfrm>
          <a:custGeom>
            <a:avLst/>
            <a:gdLst/>
            <a:ahLst/>
            <a:rect l="l" t="t" r="r" b="b"/>
            <a:pathLst>
              <a:path w="2037" h="2439">
                <a:moveTo>
                  <a:pt x="509" y="0"/>
                </a:moveTo>
                <a:lnTo>
                  <a:pt x="509" y="1420"/>
                </a:lnTo>
                <a:lnTo>
                  <a:pt x="0" y="1419"/>
                </a:lnTo>
                <a:lnTo>
                  <a:pt x="1019" y="2439"/>
                </a:lnTo>
                <a:lnTo>
                  <a:pt x="2037" y="1420"/>
                </a:lnTo>
                <a:lnTo>
                  <a:pt x="1528" y="1420"/>
                </a:lnTo>
                <a:lnTo>
                  <a:pt x="1528" y="1"/>
                </a:lnTo>
                <a:lnTo>
                  <a:pt x="509" y="0"/>
                </a:lnTo>
              </a:path>
            </a:pathLst>
          </a:custGeom>
          <a:solidFill>
            <a:srgbClr val="8f5201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8" name=""/>
          <p:cNvSpPr/>
          <p:nvPr/>
        </p:nvSpPr>
        <p:spPr>
          <a:xfrm>
            <a:off x="6372360" y="2095560"/>
            <a:ext cx="2592360" cy="849240"/>
          </a:xfrm>
          <a:custGeom>
            <a:avLst/>
            <a:gdLst/>
            <a:ahLst/>
            <a:rect l="l" t="t" r="r" b="b"/>
            <a:pathLst>
              <a:path w="3601" h="1180">
                <a:moveTo>
                  <a:pt x="0" y="1180"/>
                </a:moveTo>
                <a:lnTo>
                  <a:pt x="3601" y="1180"/>
                </a:lnTo>
                <a:lnTo>
                  <a:pt x="180" y="90"/>
                </a:lnTo>
                <a:lnTo>
                  <a:pt x="3601" y="1180"/>
                </a:lnTo>
                <a:lnTo>
                  <a:pt x="270" y="90"/>
                </a:lnTo>
                <a:close/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Безвозмездные поступлени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9" name=""/>
          <p:cNvSpPr/>
          <p:nvPr/>
        </p:nvSpPr>
        <p:spPr>
          <a:xfrm>
            <a:off x="328680" y="3235320"/>
            <a:ext cx="2687400" cy="339408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-налог на доходы физических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лиц;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-акцизы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-Единый сельскохозяйственный налог;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-Налог на имущество физических лиц;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-Земельный налог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0" name=""/>
          <p:cNvSpPr/>
          <p:nvPr/>
        </p:nvSpPr>
        <p:spPr>
          <a:xfrm>
            <a:off x="3373560" y="3235320"/>
            <a:ext cx="2751120" cy="343368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-доходы от использования имущества, находящегося в государственной и муниципальной собственности;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-доходы от продажи материальных и нематериальных активов;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-штрафы, санкции, возмещение ущерба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1" name=""/>
          <p:cNvSpPr/>
          <p:nvPr/>
        </p:nvSpPr>
        <p:spPr>
          <a:xfrm>
            <a:off x="6372360" y="3235320"/>
            <a:ext cx="2592360" cy="339408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Поступления от других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бюджетов (межбюджетные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трансферты), организаций,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граждан (кроме налоговых и неналоговых доходов)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14400" y="554040"/>
            <a:ext cx="8229600" cy="6188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42920" y="620640"/>
            <a:ext cx="8893080" cy="538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Уважаемые жители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Байкаловского сельского поселения!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Администрация  Байкаловского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сельского поселения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Байкаловского муниципального района Свердловской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области представляет Вам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"Бюджет для граждан", созданный для обеспечения прозрачности и открытости бюджетного процесса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Наверняка многих  волнует вопрос, на какие цели расходуются средства местного бюджета? Каждый вправе в максимально удобной и доступной форме получать информацию о направлениях бюджетной политики, проводимой на территории  Байкаловского сельского поселения, чтобы иметь возможность самостоятельно делать выводы об эффективности расходования средств.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С уважением,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Глава  Байкаловского сельского поселения                                 Д.В. Лыжин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42920" y="704880"/>
            <a:ext cx="2916360" cy="2484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076720" y="5181480"/>
            <a:ext cx="1116000" cy="9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07880" y="212760"/>
            <a:ext cx="8431200" cy="101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63640" y="1376280"/>
          <a:ext cx="7525800" cy="5365440"/>
        </p:xfrm>
        <a:graphic>
          <a:graphicData uri="http://schemas.openxmlformats.org/drawingml/2006/table">
            <a:tbl>
              <a:tblPr/>
              <a:tblGrid>
                <a:gridCol w="1881000"/>
                <a:gridCol w="1881720"/>
                <a:gridCol w="1881360"/>
                <a:gridCol w="188172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источника финансирования дефицита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8a68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 (тыс.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8a68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 (тыс.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8a68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7 год (тыс.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8a685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средств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946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ение прочих остатков денежных средств бюджетов сель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49 07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46 48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90 47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ньшение прочих остатков денежных средств бюджетов сель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9 07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6 48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 47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37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источников внутреннего финансирования дефицита бюджета сельского по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96720" y="182520"/>
            <a:ext cx="8204400" cy="101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927000" y="1341360"/>
          <a:ext cx="7678440" cy="936360"/>
        </p:xfrm>
        <a:graphic>
          <a:graphicData uri="http://schemas.openxmlformats.org/drawingml/2006/table">
            <a:tbl>
              <a:tblPr/>
              <a:tblGrid>
                <a:gridCol w="2559600"/>
                <a:gridCol w="2559240"/>
                <a:gridCol w="2559600"/>
              </a:tblGrid>
              <a:tr h="93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 246руб./ ч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8a68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6 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 096руб./ ч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8a68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7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 116руб./ ч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8a685"/>
                    </a:solidFill>
                  </a:tcPr>
                </a:tc>
              </a:tr>
            </a:tbl>
          </a:graphicData>
        </a:graphic>
      </p:graphicFrame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1042920" y="2889360"/>
            <a:ext cx="2413080" cy="3624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4103640" y="3063960"/>
            <a:ext cx="4529160" cy="32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008000" y="189000"/>
            <a:ext cx="7885080" cy="1116000"/>
          </a:xfrm>
          <a:custGeom>
            <a:avLst/>
            <a:gdLst/>
            <a:ahLst/>
            <a:rect l="l" t="t" r="r" b="b"/>
            <a:pathLst>
              <a:path w="10952" h="1550">
                <a:moveTo>
                  <a:pt x="0" y="1550"/>
                </a:moveTo>
                <a:lnTo>
                  <a:pt x="10952" y="1550"/>
                </a:lnTo>
                <a:lnTo>
                  <a:pt x="180" y="90"/>
                </a:lnTo>
                <a:lnTo>
                  <a:pt x="10952" y="1550"/>
                </a:lnTo>
                <a:lnTo>
                  <a:pt x="270" y="90"/>
                </a:lnTo>
                <a:close/>
              </a:path>
            </a:pathLst>
          </a:custGeom>
          <a:solidFill>
            <a:srgbClr val="dfff82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04920" y="79200"/>
            <a:ext cx="8839080" cy="12733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92160" y="1433520"/>
            <a:ext cx="8937720" cy="54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19280" y="268200"/>
            <a:ext cx="7589520" cy="7686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592360" y="1160640"/>
            <a:ext cx="4283280" cy="601560"/>
          </a:xfrm>
          <a:prstGeom prst="rect">
            <a:avLst/>
          </a:prstGeom>
          <a:gradFill rotWithShape="0">
            <a:gsLst>
              <a:gs pos="0">
                <a:srgbClr val="ffc87b"/>
              </a:gs>
              <a:gs pos="100000">
                <a:srgbClr val="ffeed8"/>
              </a:gs>
            </a:gsLst>
            <a:lin ang="16200000"/>
          </a:gradFill>
          <a:ln w="9360">
            <a:solidFill>
              <a:srgbClr val="fe9d1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Бюджет сельского поселени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762120" y="2103480"/>
            <a:ext cx="7808760" cy="736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067280" y="1762200"/>
            <a:ext cx="1150920" cy="371520"/>
          </a:xfrm>
          <a:custGeom>
            <a:avLst/>
            <a:gdLst/>
            <a:ahLst/>
            <a:rect l="l" t="t" r="r" b="b"/>
            <a:pathLst>
              <a:path w="3198" h="1033">
                <a:moveTo>
                  <a:pt x="799" y="0"/>
                </a:moveTo>
                <a:lnTo>
                  <a:pt x="799" y="516"/>
                </a:lnTo>
                <a:lnTo>
                  <a:pt x="0" y="516"/>
                </a:lnTo>
                <a:lnTo>
                  <a:pt x="1599" y="1033"/>
                </a:lnTo>
                <a:lnTo>
                  <a:pt x="3198" y="516"/>
                </a:lnTo>
                <a:lnTo>
                  <a:pt x="2398" y="516"/>
                </a:lnTo>
                <a:lnTo>
                  <a:pt x="2398" y="0"/>
                </a:lnTo>
                <a:lnTo>
                  <a:pt x="799" y="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5" name=""/>
          <p:cNvSpPr/>
          <p:nvPr/>
        </p:nvSpPr>
        <p:spPr>
          <a:xfrm>
            <a:off x="2735280" y="2816280"/>
            <a:ext cx="485640" cy="433440"/>
          </a:xfrm>
          <a:custGeom>
            <a:avLst/>
            <a:gdLst/>
            <a:ahLst/>
            <a:rect l="l" t="t" r="r" b="b"/>
            <a:pathLst>
              <a:path w="1350" h="1205">
                <a:moveTo>
                  <a:pt x="337" y="0"/>
                </a:moveTo>
                <a:lnTo>
                  <a:pt x="337" y="602"/>
                </a:lnTo>
                <a:lnTo>
                  <a:pt x="0" y="602"/>
                </a:lnTo>
                <a:lnTo>
                  <a:pt x="675" y="1205"/>
                </a:lnTo>
                <a:lnTo>
                  <a:pt x="1350" y="602"/>
                </a:lnTo>
                <a:lnTo>
                  <a:pt x="1012" y="602"/>
                </a:lnTo>
                <a:lnTo>
                  <a:pt x="1012" y="0"/>
                </a:lnTo>
                <a:lnTo>
                  <a:pt x="337" y="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6" name=""/>
          <p:cNvSpPr/>
          <p:nvPr/>
        </p:nvSpPr>
        <p:spPr>
          <a:xfrm>
            <a:off x="7451640" y="2816280"/>
            <a:ext cx="612720" cy="1333440"/>
          </a:xfrm>
          <a:custGeom>
            <a:avLst/>
            <a:gdLst/>
            <a:ahLst/>
            <a:rect l="l" t="t" r="r" b="b"/>
            <a:pathLst>
              <a:path w="1703" h="3705">
                <a:moveTo>
                  <a:pt x="425" y="0"/>
                </a:moveTo>
                <a:lnTo>
                  <a:pt x="425" y="2853"/>
                </a:lnTo>
                <a:lnTo>
                  <a:pt x="0" y="2853"/>
                </a:lnTo>
                <a:lnTo>
                  <a:pt x="851" y="3705"/>
                </a:lnTo>
                <a:lnTo>
                  <a:pt x="1703" y="2853"/>
                </a:lnTo>
                <a:lnTo>
                  <a:pt x="1277" y="2853"/>
                </a:lnTo>
                <a:lnTo>
                  <a:pt x="1277" y="0"/>
                </a:lnTo>
                <a:lnTo>
                  <a:pt x="425" y="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7" name=""/>
          <p:cNvSpPr/>
          <p:nvPr/>
        </p:nvSpPr>
        <p:spPr>
          <a:xfrm>
            <a:off x="1079640" y="3249720"/>
            <a:ext cx="6013440" cy="574560"/>
          </a:xfrm>
          <a:prstGeom prst="rect">
            <a:avLst/>
          </a:prstGeom>
          <a:gradFill rotWithShape="0">
            <a:gsLst>
              <a:gs pos="0">
                <a:srgbClr val="e6c3ad"/>
              </a:gs>
              <a:gs pos="100000">
                <a:srgbClr val="f8efe9"/>
              </a:gs>
            </a:gsLst>
            <a:lin ang="16200000"/>
          </a:gradFill>
          <a:ln w="9360">
            <a:solidFill>
              <a:srgbClr val="94683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Муниципальные программы Байкаловского сельского поселения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8" name=""/>
          <p:cNvSpPr/>
          <p:nvPr/>
        </p:nvSpPr>
        <p:spPr>
          <a:xfrm>
            <a:off x="2978280" y="4149720"/>
            <a:ext cx="2385720" cy="227484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«Социально-экономическое развитие Байкаловского сельского поселения» на 2023-2032 годы  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( 16 подпрограмм) 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643 575,5 тыс.руб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9" name=""/>
          <p:cNvSpPr/>
          <p:nvPr/>
        </p:nvSpPr>
        <p:spPr>
          <a:xfrm>
            <a:off x="7093080" y="4149720"/>
            <a:ext cx="1439640" cy="226692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Непрограммные расходы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(на содержание Главы БСП, аппарата Думы БСП, резервный фонд администрации, переданные полномочия в  БМР</a:t>
            </a:r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5 497,9 тыс.руб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0" name=""/>
          <p:cNvSpPr/>
          <p:nvPr/>
        </p:nvSpPr>
        <p:spPr>
          <a:xfrm>
            <a:off x="3801960" y="3792600"/>
            <a:ext cx="530280" cy="441360"/>
          </a:xfrm>
          <a:custGeom>
            <a:avLst/>
            <a:gdLst/>
            <a:ahLst/>
            <a:rect l="l" t="t" r="r" b="b"/>
            <a:pathLst>
              <a:path w="1474" h="1227">
                <a:moveTo>
                  <a:pt x="368" y="0"/>
                </a:moveTo>
                <a:lnTo>
                  <a:pt x="368" y="613"/>
                </a:lnTo>
                <a:lnTo>
                  <a:pt x="0" y="613"/>
                </a:lnTo>
                <a:lnTo>
                  <a:pt x="737" y="1227"/>
                </a:lnTo>
                <a:lnTo>
                  <a:pt x="1474" y="613"/>
                </a:lnTo>
                <a:lnTo>
                  <a:pt x="1105" y="613"/>
                </a:lnTo>
                <a:lnTo>
                  <a:pt x="1105" y="0"/>
                </a:lnTo>
                <a:lnTo>
                  <a:pt x="368" y="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42880" y="171360"/>
            <a:ext cx="7765920" cy="487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1122480" y="811080"/>
            <a:ext cx="6862680" cy="9684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908000" y="1916280"/>
            <a:ext cx="5543640" cy="360360"/>
          </a:xfrm>
          <a:prstGeom prst="rect">
            <a:avLst/>
          </a:prstGeom>
          <a:solidFill>
            <a:srgbClr val="f4fce4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Зачем формировать и исполнять бюджет по программам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DejaVu Sans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152360" y="2419200"/>
            <a:ext cx="2810160" cy="21290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635280" y="2816280"/>
            <a:ext cx="468360" cy="396720"/>
          </a:xfrm>
          <a:custGeom>
            <a:avLst/>
            <a:gdLst/>
            <a:ahLst/>
            <a:rect l="l" t="t" r="r" b="b"/>
            <a:pathLst>
              <a:path w="1302" h="1103">
                <a:moveTo>
                  <a:pt x="0" y="275"/>
                </a:moveTo>
                <a:lnTo>
                  <a:pt x="868" y="275"/>
                </a:lnTo>
                <a:lnTo>
                  <a:pt x="868" y="0"/>
                </a:lnTo>
                <a:lnTo>
                  <a:pt x="1302" y="551"/>
                </a:lnTo>
                <a:lnTo>
                  <a:pt x="868" y="1103"/>
                </a:lnTo>
                <a:lnTo>
                  <a:pt x="868" y="827"/>
                </a:lnTo>
                <a:lnTo>
                  <a:pt x="0" y="827"/>
                </a:lnTo>
                <a:lnTo>
                  <a:pt x="0" y="275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6" name=""/>
          <p:cNvSpPr/>
          <p:nvPr/>
        </p:nvSpPr>
        <p:spPr>
          <a:xfrm>
            <a:off x="3635280" y="3321000"/>
            <a:ext cx="468360" cy="395280"/>
          </a:xfrm>
          <a:custGeom>
            <a:avLst/>
            <a:gdLst/>
            <a:ahLst/>
            <a:rect l="l" t="t" r="r" b="b"/>
            <a:pathLst>
              <a:path w="1302" h="1099">
                <a:moveTo>
                  <a:pt x="0" y="274"/>
                </a:moveTo>
                <a:lnTo>
                  <a:pt x="752" y="274"/>
                </a:lnTo>
                <a:lnTo>
                  <a:pt x="752" y="0"/>
                </a:lnTo>
                <a:lnTo>
                  <a:pt x="1302" y="549"/>
                </a:lnTo>
                <a:lnTo>
                  <a:pt x="752" y="1099"/>
                </a:lnTo>
                <a:lnTo>
                  <a:pt x="752" y="824"/>
                </a:lnTo>
                <a:lnTo>
                  <a:pt x="0" y="824"/>
                </a:lnTo>
                <a:lnTo>
                  <a:pt x="0" y="274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3790800"/>
            <a:ext cx="468360" cy="432000"/>
          </a:xfrm>
          <a:custGeom>
            <a:avLst/>
            <a:gdLst/>
            <a:ahLst/>
            <a:rect l="l" t="t" r="r" b="b"/>
            <a:pathLst>
              <a:path w="1302" h="1201">
                <a:moveTo>
                  <a:pt x="0" y="300"/>
                </a:moveTo>
                <a:lnTo>
                  <a:pt x="701" y="300"/>
                </a:lnTo>
                <a:lnTo>
                  <a:pt x="701" y="0"/>
                </a:lnTo>
                <a:lnTo>
                  <a:pt x="1302" y="600"/>
                </a:lnTo>
                <a:lnTo>
                  <a:pt x="701" y="1201"/>
                </a:lnTo>
                <a:lnTo>
                  <a:pt x="701" y="900"/>
                </a:lnTo>
                <a:lnTo>
                  <a:pt x="0" y="900"/>
                </a:lnTo>
                <a:lnTo>
                  <a:pt x="0" y="30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8" name=""/>
          <p:cNvSpPr/>
          <p:nvPr/>
        </p:nvSpPr>
        <p:spPr>
          <a:xfrm>
            <a:off x="4103640" y="2708280"/>
            <a:ext cx="601560" cy="544680"/>
          </a:xfrm>
          <a:custGeom>
            <a:avLst/>
            <a:gdLst/>
            <a:ahLst/>
            <a:rect l="l" t="t" r="r" b="b"/>
            <a:pathLst>
              <a:path w="836" h="757">
                <a:moveTo>
                  <a:pt x="0" y="757"/>
                </a:moveTo>
                <a:lnTo>
                  <a:pt x="836" y="757"/>
                </a:lnTo>
                <a:lnTo>
                  <a:pt x="180" y="90"/>
                </a:lnTo>
                <a:lnTo>
                  <a:pt x="836" y="757"/>
                </a:lnTo>
                <a:lnTo>
                  <a:pt x="270" y="90"/>
                </a:lnTo>
                <a:close/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9" name=""/>
          <p:cNvSpPr/>
          <p:nvPr/>
        </p:nvSpPr>
        <p:spPr>
          <a:xfrm>
            <a:off x="4103640" y="3252960"/>
            <a:ext cx="576360" cy="525240"/>
          </a:xfrm>
          <a:custGeom>
            <a:avLst/>
            <a:gdLst/>
            <a:ahLst/>
            <a:rect l="l" t="t" r="r" b="b"/>
            <a:pathLst>
              <a:path w="801" h="730">
                <a:moveTo>
                  <a:pt x="0" y="730"/>
                </a:moveTo>
                <a:lnTo>
                  <a:pt x="801" y="730"/>
                </a:lnTo>
                <a:lnTo>
                  <a:pt x="180" y="90"/>
                </a:lnTo>
                <a:lnTo>
                  <a:pt x="801" y="730"/>
                </a:lnTo>
                <a:lnTo>
                  <a:pt x="270" y="90"/>
                </a:lnTo>
                <a:close/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0" name=""/>
          <p:cNvSpPr/>
          <p:nvPr/>
        </p:nvSpPr>
        <p:spPr>
          <a:xfrm>
            <a:off x="4103640" y="3778200"/>
            <a:ext cx="601560" cy="550800"/>
          </a:xfrm>
          <a:custGeom>
            <a:avLst/>
            <a:gdLst/>
            <a:ahLst/>
            <a:rect l="l" t="t" r="r" b="b"/>
            <a:pathLst>
              <a:path w="836" h="765">
                <a:moveTo>
                  <a:pt x="0" y="765"/>
                </a:moveTo>
                <a:lnTo>
                  <a:pt x="836" y="765"/>
                </a:lnTo>
                <a:lnTo>
                  <a:pt x="180" y="90"/>
                </a:lnTo>
                <a:lnTo>
                  <a:pt x="836" y="765"/>
                </a:lnTo>
                <a:lnTo>
                  <a:pt x="270" y="90"/>
                </a:lnTo>
                <a:close/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1" name=""/>
          <p:cNvSpPr/>
          <p:nvPr/>
        </p:nvSpPr>
        <p:spPr>
          <a:xfrm>
            <a:off x="4705200" y="2816280"/>
            <a:ext cx="479520" cy="436680"/>
          </a:xfrm>
          <a:custGeom>
            <a:avLst/>
            <a:gdLst/>
            <a:ahLst/>
            <a:rect l="l" t="t" r="r" b="b"/>
            <a:pathLst>
              <a:path w="1333" h="1214">
                <a:moveTo>
                  <a:pt x="0" y="303"/>
                </a:moveTo>
                <a:lnTo>
                  <a:pt x="726" y="303"/>
                </a:lnTo>
                <a:lnTo>
                  <a:pt x="726" y="0"/>
                </a:lnTo>
                <a:lnTo>
                  <a:pt x="1333" y="607"/>
                </a:lnTo>
                <a:lnTo>
                  <a:pt x="726" y="1214"/>
                </a:lnTo>
                <a:lnTo>
                  <a:pt x="726" y="910"/>
                </a:lnTo>
                <a:lnTo>
                  <a:pt x="0" y="910"/>
                </a:lnTo>
                <a:lnTo>
                  <a:pt x="0" y="303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2" name=""/>
          <p:cNvSpPr/>
          <p:nvPr/>
        </p:nvSpPr>
        <p:spPr>
          <a:xfrm>
            <a:off x="4680000" y="3321000"/>
            <a:ext cx="504720" cy="395280"/>
          </a:xfrm>
          <a:custGeom>
            <a:avLst/>
            <a:gdLst/>
            <a:ahLst/>
            <a:rect l="l" t="t" r="r" b="b"/>
            <a:pathLst>
              <a:path w="1403" h="1099">
                <a:moveTo>
                  <a:pt x="0" y="274"/>
                </a:moveTo>
                <a:lnTo>
                  <a:pt x="853" y="274"/>
                </a:lnTo>
                <a:lnTo>
                  <a:pt x="853" y="0"/>
                </a:lnTo>
                <a:lnTo>
                  <a:pt x="1403" y="549"/>
                </a:lnTo>
                <a:lnTo>
                  <a:pt x="853" y="1099"/>
                </a:lnTo>
                <a:lnTo>
                  <a:pt x="853" y="824"/>
                </a:lnTo>
                <a:lnTo>
                  <a:pt x="0" y="824"/>
                </a:lnTo>
                <a:lnTo>
                  <a:pt x="0" y="274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3" name=""/>
          <p:cNvSpPr/>
          <p:nvPr/>
        </p:nvSpPr>
        <p:spPr>
          <a:xfrm>
            <a:off x="4705200" y="3790800"/>
            <a:ext cx="479520" cy="432000"/>
          </a:xfrm>
          <a:custGeom>
            <a:avLst/>
            <a:gdLst/>
            <a:ahLst/>
            <a:rect l="l" t="t" r="r" b="b"/>
            <a:pathLst>
              <a:path w="1333" h="1201">
                <a:moveTo>
                  <a:pt x="0" y="300"/>
                </a:moveTo>
                <a:lnTo>
                  <a:pt x="732" y="300"/>
                </a:lnTo>
                <a:lnTo>
                  <a:pt x="732" y="0"/>
                </a:lnTo>
                <a:lnTo>
                  <a:pt x="1333" y="600"/>
                </a:lnTo>
                <a:lnTo>
                  <a:pt x="732" y="1201"/>
                </a:lnTo>
                <a:lnTo>
                  <a:pt x="732" y="900"/>
                </a:lnTo>
                <a:lnTo>
                  <a:pt x="0" y="900"/>
                </a:lnTo>
                <a:lnTo>
                  <a:pt x="0" y="30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4" name=""/>
          <p:cNvSpPr/>
          <p:nvPr/>
        </p:nvSpPr>
        <p:spPr>
          <a:xfrm>
            <a:off x="5200560" y="2708280"/>
            <a:ext cx="558720" cy="504720"/>
          </a:xfrm>
          <a:custGeom>
            <a:avLst/>
            <a:gdLst/>
            <a:ahLst/>
            <a:rect l="l" t="t" r="r" b="b"/>
            <a:pathLst>
              <a:path w="776" h="701">
                <a:moveTo>
                  <a:pt x="0" y="701"/>
                </a:moveTo>
                <a:lnTo>
                  <a:pt x="776" y="701"/>
                </a:lnTo>
                <a:lnTo>
                  <a:pt x="180" y="90"/>
                </a:lnTo>
                <a:lnTo>
                  <a:pt x="776" y="701"/>
                </a:lnTo>
                <a:lnTo>
                  <a:pt x="270" y="90"/>
                </a:lnTo>
                <a:close/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5" name=""/>
          <p:cNvSpPr/>
          <p:nvPr/>
        </p:nvSpPr>
        <p:spPr>
          <a:xfrm>
            <a:off x="5184720" y="3252960"/>
            <a:ext cx="574560" cy="525240"/>
          </a:xfrm>
          <a:custGeom>
            <a:avLst/>
            <a:gdLst/>
            <a:ahLst/>
            <a:rect l="l" t="t" r="r" b="b"/>
            <a:pathLst>
              <a:path w="798" h="730">
                <a:moveTo>
                  <a:pt x="0" y="730"/>
                </a:moveTo>
                <a:lnTo>
                  <a:pt x="798" y="730"/>
                </a:lnTo>
                <a:lnTo>
                  <a:pt x="180" y="90"/>
                </a:lnTo>
                <a:lnTo>
                  <a:pt x="798" y="730"/>
                </a:lnTo>
                <a:lnTo>
                  <a:pt x="270" y="90"/>
                </a:lnTo>
                <a:close/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6" name=""/>
          <p:cNvSpPr/>
          <p:nvPr/>
        </p:nvSpPr>
        <p:spPr>
          <a:xfrm>
            <a:off x="5200560" y="3790800"/>
            <a:ext cx="558720" cy="538200"/>
          </a:xfrm>
          <a:custGeom>
            <a:avLst/>
            <a:gdLst/>
            <a:ahLst/>
            <a:rect l="l" t="t" r="r" b="b"/>
            <a:pathLst>
              <a:path w="776" h="748">
                <a:moveTo>
                  <a:pt x="0" y="748"/>
                </a:moveTo>
                <a:lnTo>
                  <a:pt x="776" y="748"/>
                </a:lnTo>
                <a:lnTo>
                  <a:pt x="180" y="90"/>
                </a:lnTo>
                <a:lnTo>
                  <a:pt x="776" y="748"/>
                </a:lnTo>
                <a:lnTo>
                  <a:pt x="270" y="90"/>
                </a:lnTo>
                <a:close/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7" name=""/>
          <p:cNvSpPr/>
          <p:nvPr/>
        </p:nvSpPr>
        <p:spPr>
          <a:xfrm>
            <a:off x="5759280" y="2816280"/>
            <a:ext cx="544680" cy="396720"/>
          </a:xfrm>
          <a:custGeom>
            <a:avLst/>
            <a:gdLst/>
            <a:ahLst/>
            <a:rect l="l" t="t" r="r" b="b"/>
            <a:pathLst>
              <a:path w="1514" h="1103">
                <a:moveTo>
                  <a:pt x="0" y="275"/>
                </a:moveTo>
                <a:lnTo>
                  <a:pt x="962" y="275"/>
                </a:lnTo>
                <a:lnTo>
                  <a:pt x="962" y="0"/>
                </a:lnTo>
                <a:lnTo>
                  <a:pt x="1514" y="551"/>
                </a:lnTo>
                <a:lnTo>
                  <a:pt x="962" y="1103"/>
                </a:lnTo>
                <a:lnTo>
                  <a:pt x="962" y="827"/>
                </a:lnTo>
                <a:lnTo>
                  <a:pt x="0" y="827"/>
                </a:lnTo>
                <a:lnTo>
                  <a:pt x="0" y="275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8" name=""/>
          <p:cNvSpPr/>
          <p:nvPr/>
        </p:nvSpPr>
        <p:spPr>
          <a:xfrm>
            <a:off x="5759280" y="3321000"/>
            <a:ext cx="544680" cy="395280"/>
          </a:xfrm>
          <a:custGeom>
            <a:avLst/>
            <a:gdLst/>
            <a:ahLst/>
            <a:rect l="l" t="t" r="r" b="b"/>
            <a:pathLst>
              <a:path w="1514" h="1099">
                <a:moveTo>
                  <a:pt x="0" y="274"/>
                </a:moveTo>
                <a:lnTo>
                  <a:pt x="964" y="274"/>
                </a:lnTo>
                <a:lnTo>
                  <a:pt x="964" y="0"/>
                </a:lnTo>
                <a:lnTo>
                  <a:pt x="1514" y="549"/>
                </a:lnTo>
                <a:lnTo>
                  <a:pt x="964" y="1099"/>
                </a:lnTo>
                <a:lnTo>
                  <a:pt x="964" y="824"/>
                </a:lnTo>
                <a:lnTo>
                  <a:pt x="0" y="824"/>
                </a:lnTo>
                <a:lnTo>
                  <a:pt x="0" y="274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9" name=""/>
          <p:cNvSpPr/>
          <p:nvPr/>
        </p:nvSpPr>
        <p:spPr>
          <a:xfrm>
            <a:off x="5759280" y="3790800"/>
            <a:ext cx="544680" cy="432000"/>
          </a:xfrm>
          <a:custGeom>
            <a:avLst/>
            <a:gdLst/>
            <a:ahLst/>
            <a:rect l="l" t="t" r="r" b="b"/>
            <a:pathLst>
              <a:path w="1514" h="1201">
                <a:moveTo>
                  <a:pt x="0" y="300"/>
                </a:moveTo>
                <a:lnTo>
                  <a:pt x="913" y="300"/>
                </a:lnTo>
                <a:lnTo>
                  <a:pt x="913" y="0"/>
                </a:lnTo>
                <a:lnTo>
                  <a:pt x="1514" y="600"/>
                </a:lnTo>
                <a:lnTo>
                  <a:pt x="913" y="1201"/>
                </a:lnTo>
                <a:lnTo>
                  <a:pt x="913" y="900"/>
                </a:lnTo>
                <a:lnTo>
                  <a:pt x="0" y="900"/>
                </a:lnTo>
                <a:lnTo>
                  <a:pt x="0" y="30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0" name=""/>
          <p:cNvSpPr/>
          <p:nvPr/>
        </p:nvSpPr>
        <p:spPr>
          <a:xfrm>
            <a:off x="6303960" y="2708280"/>
            <a:ext cx="644400" cy="544680"/>
          </a:xfrm>
          <a:custGeom>
            <a:avLst/>
            <a:gdLst/>
            <a:ahLst/>
            <a:rect l="l" t="t" r="r" b="b"/>
            <a:pathLst>
              <a:path w="895" h="757">
                <a:moveTo>
                  <a:pt x="0" y="757"/>
                </a:moveTo>
                <a:lnTo>
                  <a:pt x="895" y="757"/>
                </a:lnTo>
                <a:lnTo>
                  <a:pt x="180" y="90"/>
                </a:lnTo>
                <a:lnTo>
                  <a:pt x="895" y="757"/>
                </a:lnTo>
                <a:lnTo>
                  <a:pt x="270" y="90"/>
                </a:lnTo>
                <a:close/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1" name=""/>
          <p:cNvSpPr/>
          <p:nvPr/>
        </p:nvSpPr>
        <p:spPr>
          <a:xfrm>
            <a:off x="6303960" y="3213000"/>
            <a:ext cx="644400" cy="577800"/>
          </a:xfrm>
          <a:custGeom>
            <a:avLst/>
            <a:gdLst/>
            <a:ahLst/>
            <a:rect l="l" t="t" r="r" b="b"/>
            <a:pathLst>
              <a:path w="895" h="803">
                <a:moveTo>
                  <a:pt x="0" y="803"/>
                </a:moveTo>
                <a:lnTo>
                  <a:pt x="895" y="803"/>
                </a:lnTo>
                <a:lnTo>
                  <a:pt x="180" y="90"/>
                </a:lnTo>
                <a:lnTo>
                  <a:pt x="895" y="803"/>
                </a:lnTo>
                <a:lnTo>
                  <a:pt x="270" y="90"/>
                </a:lnTo>
                <a:close/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2" name=""/>
          <p:cNvSpPr/>
          <p:nvPr/>
        </p:nvSpPr>
        <p:spPr>
          <a:xfrm>
            <a:off x="6303960" y="3778200"/>
            <a:ext cx="644400" cy="550800"/>
          </a:xfrm>
          <a:custGeom>
            <a:avLst/>
            <a:gdLst/>
            <a:ahLst/>
            <a:rect l="l" t="t" r="r" b="b"/>
            <a:pathLst>
              <a:path w="895" h="765">
                <a:moveTo>
                  <a:pt x="0" y="765"/>
                </a:moveTo>
                <a:lnTo>
                  <a:pt x="895" y="765"/>
                </a:lnTo>
                <a:lnTo>
                  <a:pt x="180" y="90"/>
                </a:lnTo>
                <a:lnTo>
                  <a:pt x="895" y="765"/>
                </a:lnTo>
                <a:lnTo>
                  <a:pt x="270" y="90"/>
                </a:lnTo>
                <a:close/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3" name=""/>
          <p:cNvSpPr/>
          <p:nvPr/>
        </p:nvSpPr>
        <p:spPr>
          <a:xfrm>
            <a:off x="7078680" y="2762280"/>
            <a:ext cx="324000" cy="1512720"/>
          </a:xfrm>
          <a:custGeom>
            <a:avLst/>
            <a:gdLst/>
            <a:ahLst/>
            <a:rect l="l" t="t" r="r" b="b"/>
            <a:pathLst>
              <a:path w="901" h="4203">
                <a:moveTo>
                  <a:pt x="0" y="0"/>
                </a:moveTo>
                <a:cubicBezTo>
                  <a:pt x="225" y="0"/>
                  <a:pt x="450" y="37"/>
                  <a:pt x="450" y="74"/>
                </a:cubicBezTo>
                <a:lnTo>
                  <a:pt x="450" y="2026"/>
                </a:lnTo>
                <a:cubicBezTo>
                  <a:pt x="450" y="2064"/>
                  <a:pt x="675" y="2101"/>
                  <a:pt x="901" y="2101"/>
                </a:cubicBezTo>
                <a:cubicBezTo>
                  <a:pt x="675" y="2101"/>
                  <a:pt x="450" y="2138"/>
                  <a:pt x="450" y="2176"/>
                </a:cubicBezTo>
                <a:lnTo>
                  <a:pt x="450" y="4128"/>
                </a:lnTo>
                <a:cubicBezTo>
                  <a:pt x="450" y="4165"/>
                  <a:pt x="225" y="4203"/>
                  <a:pt x="0" y="4203"/>
                </a:cubicBezTo>
              </a:path>
            </a:pathLst>
          </a:custGeom>
          <a:noFill/>
          <a:ln w="76320">
            <a:solidFill>
              <a:srgbClr val="93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7620120" y="2749680"/>
            <a:ext cx="817560" cy="14983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55640" y="4797360"/>
            <a:ext cx="7416720" cy="179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Преимуществом программного бюджета является распределение расходов не по ведомственному принципу, а по программам. Муниципальная программа имеет цель, задачи и показатели эффективности, которые отражают степень их достижения (решения), то есть действия и бюджетные средства  направлены на достижение заданного результата.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При этом значение показателей является индикатором по данному направлению деятельности и сигнализирует о плохом или хорошем результате, необходимости принятия новых решений.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09480" y="42840"/>
            <a:ext cx="7791480" cy="67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7" name=""/>
          <p:cNvGraphicFramePr/>
          <p:nvPr/>
        </p:nvGraphicFramePr>
        <p:xfrm>
          <a:off x="6480" y="657360"/>
          <a:ext cx="9148320" cy="6793920"/>
        </p:xfrm>
        <a:graphic>
          <a:graphicData uri="http://schemas.openxmlformats.org/drawingml/2006/table">
            <a:tbl>
              <a:tblPr/>
              <a:tblGrid>
                <a:gridCol w="414360"/>
                <a:gridCol w="6409800"/>
                <a:gridCol w="792360"/>
                <a:gridCol w="792360"/>
                <a:gridCol w="739440"/>
              </a:tblGrid>
              <a:tr h="46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подпрограм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5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6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7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безопасности жизнедеятельности населения на территории  БС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6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2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19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0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транспортного и дорожного комплекса БС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39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39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 42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4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ие эффективности управления муниципальной собственностью  БС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62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йствие развитию малого и среднего предпринимательства в  БС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итальный ремонт муниципального жилищного фонда  БС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4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0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4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нергосбережение и повышение энергетической эффективности  на территории БС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51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тая вода и экология БС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2 01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6 42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22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4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зификация БС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ение мероприятий социальной политики БС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0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0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0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жилищного фонда для переселения граждан из жилых помещений, признанных непригодными для проживания и (или) с высоким уровнем износа, и обеспечение малоимущих граждан жилыми помещениями по договорам социального найма на территории  БС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58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56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08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ойство БС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64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73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82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физической культуры и спорта в БС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11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11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11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4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культурно-досуговой  деятельности БС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 17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 40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70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ежная политика БС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реализации муниципальной  программы «Социально-экономическое развитие БСП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25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22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17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жильем молодых сем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3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3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программе «Социально-экономическое  развитие Байкаловского сельского поселения» на 2023-2032 г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0 151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2 286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 061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98440" y="122400"/>
            <a:ext cx="11125080" cy="119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358920" y="1233360"/>
          <a:ext cx="8618040" cy="5400360"/>
        </p:xfrm>
        <a:graphic>
          <a:graphicData uri="http://schemas.openxmlformats.org/drawingml/2006/table">
            <a:tbl>
              <a:tblPr/>
              <a:tblGrid>
                <a:gridCol w="3616560"/>
                <a:gridCol w="1246680"/>
                <a:gridCol w="2038680"/>
                <a:gridCol w="1716120"/>
              </a:tblGrid>
              <a:tr h="495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ea02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5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ea02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6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ea02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7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ea022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 24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 09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 11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расходов на решение общегосударственных вопро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0e8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3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0e8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4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0e8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3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0e8"/>
                    </a:solidFill>
                  </a:tcPr>
                </a:tc>
              </a:tr>
              <a:tr h="340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расходов на национальную обор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</a:tr>
              <a:tr h="77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расходов на национальную безопасность и правоохранительную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0e8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0e8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0e8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0e8"/>
                    </a:solidFill>
                  </a:tcPr>
                </a:tc>
              </a:tr>
              <a:tr h="37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расходов на национальную эконом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12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51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68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</a:tr>
              <a:tr h="54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расходов на 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0e8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26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0e8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20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0e8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28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0e8"/>
                    </a:solidFill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расходов на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</a:tr>
              <a:tr h="54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расходов на культуру, кинематограф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0e8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8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0e8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40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0e8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18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0e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расходов на социальную полит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расходов на физическую культуру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0e8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0e8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0e8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0e8"/>
                    </a:solidFill>
                  </a:tcPr>
                </a:tc>
              </a:tr>
              <a:tr h="39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условно утвержденные 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  <a:tc>
                  <a:txBody>
                    <a:bodyPr lIns="9360" rIns="9360"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4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09480" y="139680"/>
            <a:ext cx="8321760" cy="64620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658800" y="628560"/>
            <a:ext cx="2394000" cy="704880"/>
            <a:chOff x="658800" y="628560"/>
            <a:chExt cx="2394000" cy="70488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658800" y="628560"/>
              <a:ext cx="239400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16040" y="689040"/>
              <a:ext cx="2274840" cy="58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  <a:ea typeface="DejaVu Sans"/>
                </a:rPr>
                <a:t>Непрограммные направления – 5 497,9 тыс.руб.</a:t>
              </a:r>
              <a:endParaRPr b="0" lang="en-US" sz="11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346560" y="596880"/>
            <a:ext cx="5394240" cy="371520"/>
            <a:chOff x="3346560" y="596880"/>
            <a:chExt cx="5394240" cy="371520"/>
          </a:xfrm>
        </p:grpSpPr>
        <p:pic>
          <p:nvPicPr>
            <p:cNvPr id="275" name="" descr=""/>
            <p:cNvPicPr/>
            <p:nvPr/>
          </p:nvPicPr>
          <p:blipFill>
            <a:blip r:embed="rId4"/>
            <a:stretch/>
          </p:blipFill>
          <p:spPr>
            <a:xfrm>
              <a:off x="3346560" y="596880"/>
              <a:ext cx="539424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3373560" y="627120"/>
              <a:ext cx="5337000" cy="31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DejaVu Sans"/>
                </a:rPr>
                <a:t>Дума  Байкаловского сельского поселения-2 211,6 тыс.руб.</a:t>
              </a:r>
              <a:endParaRPr b="0" lang="en-US" sz="11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316320" y="907920"/>
            <a:ext cx="5448240" cy="419400"/>
            <a:chOff x="3316320" y="907920"/>
            <a:chExt cx="5448240" cy="419400"/>
          </a:xfrm>
        </p:grpSpPr>
        <p:pic>
          <p:nvPicPr>
            <p:cNvPr id="278" name="" descr=""/>
            <p:cNvPicPr/>
            <p:nvPr/>
          </p:nvPicPr>
          <p:blipFill>
            <a:blip r:embed="rId5"/>
            <a:stretch/>
          </p:blipFill>
          <p:spPr>
            <a:xfrm>
              <a:off x="3316320" y="907920"/>
              <a:ext cx="5448240" cy="4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3387600" y="952560"/>
              <a:ext cx="5310360" cy="250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DejaVu Sans"/>
                </a:rPr>
                <a:t>Глава Байкаловского поселения- 2 144,8 тыс.руб.</a:t>
              </a:r>
              <a:endParaRPr b="0" lang="en-US" sz="11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346560" y="1189080"/>
            <a:ext cx="5394240" cy="466560"/>
            <a:chOff x="3346560" y="1189080"/>
            <a:chExt cx="5394240" cy="466560"/>
          </a:xfrm>
        </p:grpSpPr>
        <p:pic>
          <p:nvPicPr>
            <p:cNvPr id="281" name="" descr=""/>
            <p:cNvPicPr/>
            <p:nvPr/>
          </p:nvPicPr>
          <p:blipFill>
            <a:blip r:embed="rId6"/>
            <a:stretch/>
          </p:blipFill>
          <p:spPr>
            <a:xfrm>
              <a:off x="3346560" y="1189080"/>
              <a:ext cx="539424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3394080" y="1238400"/>
              <a:ext cx="529740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DejaVu Sans"/>
                </a:rPr>
                <a:t>Осуществление государственных полномочий по составлению списков кандидатов в присяжные заседатели федеральных судов – 2,6 тыс.руб.</a:t>
              </a:r>
              <a:endParaRPr b="0" lang="en-US" sz="11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346560" y="1603440"/>
            <a:ext cx="5394240" cy="662040"/>
            <a:chOff x="3346560" y="1603440"/>
            <a:chExt cx="5394240" cy="662040"/>
          </a:xfrm>
        </p:grpSpPr>
        <p:pic>
          <p:nvPicPr>
            <p:cNvPr id="284" name="" descr=""/>
            <p:cNvPicPr/>
            <p:nvPr/>
          </p:nvPicPr>
          <p:blipFill>
            <a:blip r:embed="rId7"/>
            <a:stretch/>
          </p:blipFill>
          <p:spPr>
            <a:xfrm>
              <a:off x="3346560" y="1603440"/>
              <a:ext cx="539424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3403440" y="1658880"/>
              <a:ext cx="5276880" cy="550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DejaVu Sans"/>
                </a:rPr>
                <a:t>Передача полномочий исполнительных органов местного самоуправления сельских поселений по осуществлению муниципального внутреннего финансового контроля – 386,0тыс.руб.</a:t>
              </a:r>
              <a:endParaRPr b="0" lang="en-US" sz="11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346560" y="2212920"/>
            <a:ext cx="5394240" cy="455760"/>
            <a:chOff x="3346560" y="2212920"/>
            <a:chExt cx="5394240" cy="455760"/>
          </a:xfrm>
        </p:grpSpPr>
        <p:pic>
          <p:nvPicPr>
            <p:cNvPr id="287" name="" descr=""/>
            <p:cNvPicPr/>
            <p:nvPr/>
          </p:nvPicPr>
          <p:blipFill>
            <a:blip r:embed="rId8"/>
            <a:stretch/>
          </p:blipFill>
          <p:spPr>
            <a:xfrm>
              <a:off x="3346560" y="2212920"/>
              <a:ext cx="539424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3394080" y="2260440"/>
              <a:ext cx="5297400" cy="36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DejaVu Sans"/>
                </a:rPr>
                <a:t>Резервные фонды исполнительных органов местного самоуправления- 170,0 тыс.руб.</a:t>
              </a:r>
              <a:endParaRPr b="0" lang="en-US" sz="11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359160" y="2614680"/>
            <a:ext cx="5381640" cy="487440"/>
            <a:chOff x="3359160" y="2614680"/>
            <a:chExt cx="5381640" cy="487440"/>
          </a:xfrm>
        </p:grpSpPr>
        <p:pic>
          <p:nvPicPr>
            <p:cNvPr id="290" name="" descr=""/>
            <p:cNvPicPr/>
            <p:nvPr/>
          </p:nvPicPr>
          <p:blipFill>
            <a:blip r:embed="rId9"/>
            <a:stretch/>
          </p:blipFill>
          <p:spPr>
            <a:xfrm>
              <a:off x="3359160" y="2614680"/>
              <a:ext cx="53816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3409920" y="2662200"/>
              <a:ext cx="5280120" cy="390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DejaVu Sans"/>
                </a:rPr>
                <a:t>Долевое участие муниципального образования в Ассоциации «Совет муниципальных образований Свердловской области»- 9,0 тыс.руб.</a:t>
              </a:r>
              <a:endParaRPr b="0" lang="en-US" sz="11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58800" y="3614760"/>
            <a:ext cx="2394000" cy="1498680"/>
            <a:chOff x="658800" y="3614760"/>
            <a:chExt cx="2394000" cy="1498680"/>
          </a:xfrm>
        </p:grpSpPr>
        <p:pic>
          <p:nvPicPr>
            <p:cNvPr id="293" name="" descr=""/>
            <p:cNvPicPr/>
            <p:nvPr/>
          </p:nvPicPr>
          <p:blipFill>
            <a:blip r:embed="rId10"/>
            <a:stretch/>
          </p:blipFill>
          <p:spPr>
            <a:xfrm>
              <a:off x="658800" y="3614760"/>
              <a:ext cx="239400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754200" y="3714840"/>
              <a:ext cx="2197080" cy="1298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  <a:ea typeface="DejaVu Sans"/>
                </a:rPr>
                <a:t>Подпрограмма «Обеспечение реализации муниципальной программы «Социально-экономическое развитие Байкаловского сельского поселения» - 23 253,4 тыс.руб.</a:t>
              </a:r>
              <a:endParaRPr b="0" lang="en-US" sz="11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346560" y="3614760"/>
            <a:ext cx="5394240" cy="584280"/>
            <a:chOff x="3346560" y="3614760"/>
            <a:chExt cx="5394240" cy="584280"/>
          </a:xfrm>
        </p:grpSpPr>
        <p:pic>
          <p:nvPicPr>
            <p:cNvPr id="296" name="" descr=""/>
            <p:cNvPicPr/>
            <p:nvPr/>
          </p:nvPicPr>
          <p:blipFill>
            <a:blip r:embed="rId11"/>
            <a:stretch/>
          </p:blipFill>
          <p:spPr>
            <a:xfrm>
              <a:off x="3346560" y="3614760"/>
              <a:ext cx="539424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3400560" y="3670200"/>
              <a:ext cx="5284800" cy="47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DejaVu Sans"/>
                </a:rPr>
                <a:t>Обеспечение деятельности муниципальных органов (центральный аппарат)- 21 060,9 тыс.руб.</a:t>
              </a:r>
              <a:endParaRPr b="0" lang="en-US" sz="11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359160" y="4230720"/>
            <a:ext cx="5392800" cy="663480"/>
            <a:chOff x="3359160" y="4230720"/>
            <a:chExt cx="5392800" cy="663480"/>
          </a:xfrm>
        </p:grpSpPr>
        <p:pic>
          <p:nvPicPr>
            <p:cNvPr id="299" name="" descr=""/>
            <p:cNvPicPr/>
            <p:nvPr/>
          </p:nvPicPr>
          <p:blipFill>
            <a:blip r:embed="rId12"/>
            <a:stretch/>
          </p:blipFill>
          <p:spPr>
            <a:xfrm>
              <a:off x="3359160" y="4230720"/>
              <a:ext cx="53928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3419640" y="4286160"/>
              <a:ext cx="5276520" cy="550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DejaVu Sans"/>
                </a:rPr>
                <a:t>Передача части организационных полномочий исполнительных органов МСУ сельских поселений по вопросам архитектуры и градостроительства – 579,2 тыс.руб.</a:t>
              </a:r>
              <a:endParaRPr b="0" lang="en-US" sz="11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346560" y="4950000"/>
            <a:ext cx="5394240" cy="736560"/>
            <a:chOff x="3346560" y="4950000"/>
            <a:chExt cx="5394240" cy="736560"/>
          </a:xfrm>
        </p:grpSpPr>
        <p:pic>
          <p:nvPicPr>
            <p:cNvPr id="302" name="" descr=""/>
            <p:cNvPicPr/>
            <p:nvPr/>
          </p:nvPicPr>
          <p:blipFill>
            <a:blip r:embed="rId13"/>
            <a:stretch/>
          </p:blipFill>
          <p:spPr>
            <a:xfrm>
              <a:off x="3346560" y="4950000"/>
              <a:ext cx="539424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3406680" y="5010120"/>
              <a:ext cx="5270760" cy="615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DejaVu Sans"/>
                </a:rPr>
                <a:t>Передача полномочий исполнительных органов МСУ сельских поселений по составлению, исполнению и контролю за исполнением бюджетов, составлению отчетов об исполнении бюджетов – 1 613,1тыс.руб.</a:t>
              </a:r>
              <a:endParaRPr b="0" lang="en-US" sz="11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346560" y="5730840"/>
            <a:ext cx="5394240" cy="893880"/>
            <a:chOff x="3346560" y="5730840"/>
            <a:chExt cx="5394240" cy="893880"/>
          </a:xfrm>
        </p:grpSpPr>
        <p:pic>
          <p:nvPicPr>
            <p:cNvPr id="305" name="" descr=""/>
            <p:cNvPicPr/>
            <p:nvPr/>
          </p:nvPicPr>
          <p:blipFill>
            <a:blip r:embed="rId14"/>
            <a:stretch/>
          </p:blipFill>
          <p:spPr>
            <a:xfrm>
              <a:off x="3346560" y="5730840"/>
              <a:ext cx="539424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3414600" y="5800680"/>
              <a:ext cx="5254560" cy="754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DejaVu Sans"/>
                </a:rPr>
                <a:t>Осуществление государственного полномочия Свердловской области по определению перечня должностных лиц, уполномоченных составлять протоколы административных правонарушений, предусмотренных законом Свердловской области – 0,2 тыс.руб.</a:t>
              </a:r>
              <a:endParaRPr b="0" lang="en-US" sz="11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808360" y="2457360"/>
            <a:ext cx="18396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359160" y="3048120"/>
            <a:ext cx="5392800" cy="479160"/>
            <a:chOff x="3359160" y="3048120"/>
            <a:chExt cx="5392800" cy="479160"/>
          </a:xfrm>
        </p:grpSpPr>
        <p:pic>
          <p:nvPicPr>
            <p:cNvPr id="309" name="" descr=""/>
            <p:cNvPicPr/>
            <p:nvPr/>
          </p:nvPicPr>
          <p:blipFill>
            <a:blip r:embed="rId15"/>
            <a:stretch/>
          </p:blipFill>
          <p:spPr>
            <a:xfrm>
              <a:off x="3359160" y="3048120"/>
              <a:ext cx="5392800" cy="47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3409920" y="3095640"/>
              <a:ext cx="5294520" cy="38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  <a:ea typeface="DejaVu Sans"/>
                </a:rPr>
                <a:t>Расходы на использование судебных актов, мировых соглашений, актов службы судебных приставов, надзорных органов- 573,9 тыс.руб.</a:t>
              </a:r>
              <a:endParaRPr b="0" lang="en-US" sz="11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682560" y="176040"/>
            <a:ext cx="8126640" cy="64620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438120" y="701640"/>
            <a:ext cx="2432160" cy="1095480"/>
            <a:chOff x="438120" y="701640"/>
            <a:chExt cx="2432160" cy="1095480"/>
          </a:xfrm>
        </p:grpSpPr>
        <p:pic>
          <p:nvPicPr>
            <p:cNvPr id="313" name="" descr=""/>
            <p:cNvPicPr/>
            <p:nvPr/>
          </p:nvPicPr>
          <p:blipFill>
            <a:blip r:embed="rId3"/>
            <a:stretch/>
          </p:blipFill>
          <p:spPr>
            <a:xfrm>
              <a:off x="438120" y="701640"/>
              <a:ext cx="2432160" cy="10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19120" y="779400"/>
              <a:ext cx="2271600" cy="94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  <a:ea typeface="DejaVu Sans"/>
                </a:rPr>
                <a:t>Подпрограмма « Осуществление мероприятий социальной политики Байкаловского сельского поселения»                   2 351,6тыс.руб.</a:t>
              </a:r>
              <a:endParaRPr b="0" lang="en-US" sz="11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571920" y="950760"/>
            <a:ext cx="4911840" cy="631800"/>
            <a:chOff x="3571920" y="950760"/>
            <a:chExt cx="4911840" cy="631800"/>
          </a:xfrm>
        </p:grpSpPr>
        <p:pic>
          <p:nvPicPr>
            <p:cNvPr id="316" name="" descr=""/>
            <p:cNvPicPr/>
            <p:nvPr/>
          </p:nvPicPr>
          <p:blipFill>
            <a:blip r:embed="rId4"/>
            <a:stretch/>
          </p:blipFill>
          <p:spPr>
            <a:xfrm>
              <a:off x="3571920" y="950760"/>
              <a:ext cx="4911840" cy="6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3627360" y="1008000"/>
              <a:ext cx="4803840" cy="51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DejaVu Sans"/>
                </a:rPr>
                <a:t>Пенсионное обеспечение муниципальных служащих-                       2 351,6 тыс.руб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DejaVu San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571920" y="1889280"/>
            <a:ext cx="4911840" cy="1242720"/>
            <a:chOff x="3571920" y="1889280"/>
            <a:chExt cx="4911840" cy="1242720"/>
          </a:xfrm>
        </p:grpSpPr>
        <p:pic>
          <p:nvPicPr>
            <p:cNvPr id="319" name="" descr=""/>
            <p:cNvPicPr/>
            <p:nvPr/>
          </p:nvPicPr>
          <p:blipFill>
            <a:blip r:embed="rId5"/>
            <a:stretch/>
          </p:blipFill>
          <p:spPr>
            <a:xfrm>
              <a:off x="3571920" y="1889280"/>
              <a:ext cx="4911840" cy="12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3657600" y="1974960"/>
              <a:ext cx="4743360" cy="106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  <a:ea typeface="DejaVu Sans"/>
                </a:rPr>
                <a:t>Мероприятия по приобретению, содержанию, управлению и распоряжению муниципальной собственностью, содержанию имущества в безвозмездном пользовании – 120,0 тыс.руб.</a:t>
              </a:r>
              <a:endParaRPr b="0" lang="en-US" sz="11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468360" y="3236760"/>
            <a:ext cx="7951680" cy="3356280"/>
          </a:xfrm>
          <a:prstGeom prst="rect">
            <a:avLst/>
          </a:prstGeom>
          <a:ln w="0">
            <a:noFill/>
          </a:ln>
        </p:spPr>
      </p:pic>
      <p:grpSp>
        <p:nvGrpSpPr>
          <p:cNvPr id="322" name=""/>
          <p:cNvGrpSpPr/>
          <p:nvPr/>
        </p:nvGrpSpPr>
        <p:grpSpPr>
          <a:xfrm>
            <a:off x="438120" y="1889280"/>
            <a:ext cx="2432160" cy="1242720"/>
            <a:chOff x="438120" y="1889280"/>
            <a:chExt cx="2432160" cy="1242720"/>
          </a:xfrm>
        </p:grpSpPr>
        <p:pic>
          <p:nvPicPr>
            <p:cNvPr id="323" name="" descr=""/>
            <p:cNvPicPr/>
            <p:nvPr/>
          </p:nvPicPr>
          <p:blipFill>
            <a:blip r:embed="rId7"/>
            <a:stretch/>
          </p:blipFill>
          <p:spPr>
            <a:xfrm>
              <a:off x="438120" y="1889280"/>
              <a:ext cx="2432160" cy="12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525600" y="1974960"/>
              <a:ext cx="2259000" cy="106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  <a:ea typeface="DejaVu Sans"/>
                </a:rPr>
                <a:t>Подпрограмма « Повышение эффективности управления муниципальной собственностью  Байкаловского сельского поселения» - 120,0 тыс.руб</a:t>
              </a:r>
              <a:endParaRPr b="0" lang="en-US" sz="11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793800" y="3895560"/>
            <a:ext cx="3541680" cy="29908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1116000" y="401760"/>
            <a:ext cx="7589880" cy="5114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99880" y="728640"/>
            <a:ext cx="866484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8" name=""/>
          <p:cNvSpPr/>
          <p:nvPr/>
        </p:nvSpPr>
        <p:spPr>
          <a:xfrm>
            <a:off x="647640" y="1592280"/>
            <a:ext cx="4319640" cy="75708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граммные направления деятельности –943,0 тыс.ру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9" name=""/>
          <p:cNvSpPr/>
          <p:nvPr/>
        </p:nvSpPr>
        <p:spPr>
          <a:xfrm>
            <a:off x="2563920" y="2351160"/>
            <a:ext cx="583920" cy="758880"/>
          </a:xfrm>
          <a:custGeom>
            <a:avLst/>
            <a:gdLst/>
            <a:ahLst/>
            <a:rect l="l" t="t" r="r" b="b"/>
            <a:pathLst>
              <a:path w="1623" h="2109">
                <a:moveTo>
                  <a:pt x="405" y="0"/>
                </a:moveTo>
                <a:lnTo>
                  <a:pt x="405" y="1297"/>
                </a:lnTo>
                <a:lnTo>
                  <a:pt x="0" y="1297"/>
                </a:lnTo>
                <a:lnTo>
                  <a:pt x="811" y="2109"/>
                </a:lnTo>
                <a:lnTo>
                  <a:pt x="1623" y="1297"/>
                </a:lnTo>
                <a:lnTo>
                  <a:pt x="1217" y="1297"/>
                </a:lnTo>
                <a:lnTo>
                  <a:pt x="1217" y="0"/>
                </a:lnTo>
                <a:lnTo>
                  <a:pt x="405" y="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0" name=""/>
          <p:cNvSpPr/>
          <p:nvPr/>
        </p:nvSpPr>
        <p:spPr>
          <a:xfrm>
            <a:off x="299880" y="3110040"/>
            <a:ext cx="8313840" cy="67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государственных полномочий Российской Федерации по первичному воинскому учету  –943,0 тыс.руб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4979880" y="4005360"/>
            <a:ext cx="3249720" cy="24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04920" y="-60480"/>
            <a:ext cx="8686800" cy="1176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1055520"/>
            <a:ext cx="8686800" cy="555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181080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о Байкалово – старинное уральское село.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от областного центра 250 км., от ближайшей железнодорожной станции Талица 50 км. На территории муниципального образования проживает 8138 человек. Село расположено на слиянии трех рек: Иленьки, Сарабайки, Липовки.</a:t>
            </a: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181080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еданию, на месте нынешнего райцентра стоял улус татарского тайши Байкала, от имени которого будто бы и происходит название села. В 1630 году, во времена похода Ермака на Урал, население становится русским, все жители приняли православную веру. Таким образом, Байкаловское село стало одним из опорных пунктов продвижения русских на Урал, в деле освоения новых земель.</a:t>
            </a: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181080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е старинное здание – церковь Покрова Божьей Матери (годы строительства 1779-1882).</a:t>
            </a: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181080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е события: Пермскою Палатою государственных имуществ в 1839 году открыто народное училище. Таким образом, Байкаловская средняя школа является самой старинной в районе.1773-1774гг. участие крестьян села в Пугачевском восстании (руководил местный священник). 1917-1921гг. - участие жителей в Гражданской войне. На фронт ушло 3 тыс. жителей Байкалово, из них половина не вернулась.</a:t>
            </a: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181080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с. Байкалово является центром поселения с одноименным названием. На его территории три образовательных учреждения, в т.ч. одна средняя школа, начальное профессиональное училище. Училище обучает молодых людей по всем профессиям, которые нужны селу (механизаторы, швеи, водители и т.д.).</a:t>
            </a: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181080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каловское сельское поселение - сельскохозяйственное. Находится в юго-восточной части Свердловской области, на Севере граничит с Краснополянским и Баженовским сельскими поселениями, востоке Слободо – Туринским и Тугулымским районами, Западе Ирбитским, на Юге с Талицким районами.Территория поселения 1105,5кв.км. Территория поселения в основном равнинная, лесистая. Климат характеризуется зачастую избытком осадков и резкими колебаниями температуры воздуха, как по сезонам, так и в течение суток. </a:t>
            </a: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-181080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вы в основном черноземные, плодородные, что и определило экономику поселения, как аграрную. В лесах преобладают лиственные породы. Хвойного леса хватает лишь для удовлетворения потребностей народного хозяйства района. В лесах водятся: лось, кабан, волки, косуля, зайцы, глухарь, тетерева, рябчики, составляющие промысловую основу охотничьего хозяйства. На территории поселения много озёр, богатых рыбой. Из полезных ископаемых имеются запасы песка, торфа, известковых туфов, потребляемых на местные нужды. </a:t>
            </a:r>
            <a:endParaRPr b="0" lang="en-US" sz="13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4933800" y="2374920"/>
            <a:ext cx="3490920" cy="2133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09680" y="1347840"/>
            <a:ext cx="8339040" cy="64620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304920" y="92160"/>
            <a:ext cx="8686800" cy="13460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409680" y="1347840"/>
            <a:ext cx="83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Подпрограмма «Обеспечение  безопасности жизнедеятельности населения на территории Байкаловского сельского поселения» - 2 116,4тыс.руб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6" name=""/>
          <p:cNvSpPr/>
          <p:nvPr/>
        </p:nvSpPr>
        <p:spPr>
          <a:xfrm>
            <a:off x="409680" y="2781360"/>
            <a:ext cx="3983040" cy="11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, ремонт и обслуживание источников наружного противопожарного водоснабжения и подъездов к ним, установка и обслуживание водозаборных колодцев, противопожарная пропаганда, установка указателей, опахивание населенных пунктов -330,4 тыс.руб.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7" name=""/>
          <p:cNvSpPr/>
          <p:nvPr/>
        </p:nvSpPr>
        <p:spPr>
          <a:xfrm>
            <a:off x="1947960" y="2000160"/>
            <a:ext cx="765000" cy="662040"/>
          </a:xfrm>
          <a:custGeom>
            <a:avLst/>
            <a:gdLst/>
            <a:ahLst/>
            <a:rect l="l" t="t" r="r" b="b"/>
            <a:pathLst>
              <a:path w="2126" h="1840">
                <a:moveTo>
                  <a:pt x="531" y="0"/>
                </a:moveTo>
                <a:lnTo>
                  <a:pt x="531" y="920"/>
                </a:lnTo>
                <a:lnTo>
                  <a:pt x="0" y="920"/>
                </a:lnTo>
                <a:lnTo>
                  <a:pt x="1063" y="1840"/>
                </a:lnTo>
                <a:lnTo>
                  <a:pt x="2126" y="920"/>
                </a:lnTo>
                <a:lnTo>
                  <a:pt x="1594" y="920"/>
                </a:lnTo>
                <a:lnTo>
                  <a:pt x="1594" y="0"/>
                </a:lnTo>
                <a:lnTo>
                  <a:pt x="531" y="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5211720" y="4707000"/>
            <a:ext cx="2970360" cy="19461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539640" y="4757760"/>
            <a:ext cx="3853080" cy="18954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09680" y="4041720"/>
            <a:ext cx="3983040" cy="46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ятельности пожарной охраны – 1 786,0 тыс.руб.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7602480" y="4570560"/>
            <a:ext cx="1387440" cy="912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7054920" y="5291280"/>
            <a:ext cx="1935000" cy="15667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304920" y="-85680"/>
            <a:ext cx="8686800" cy="8604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54080" y="544680"/>
            <a:ext cx="2008080" cy="149688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рограмма «Обеспечение  безопасности жизнедеятельности населения на территории Байкаловского сельского поселения» -                       2 344,0тыс.руб.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5" name=""/>
          <p:cNvSpPr/>
          <p:nvPr/>
        </p:nvSpPr>
        <p:spPr>
          <a:xfrm>
            <a:off x="2271600" y="544680"/>
            <a:ext cx="2482920" cy="109512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рограмма «Развитие транспортного и дорожного комплекса  Байкаловского сельского поселения» –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 395,8тыс.руб.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6" name=""/>
          <p:cNvSpPr/>
          <p:nvPr/>
        </p:nvSpPr>
        <p:spPr>
          <a:xfrm>
            <a:off x="4863960" y="544680"/>
            <a:ext cx="4121280" cy="160632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рограмма «Повышение эффективности управления муниципальной собственностью  Байкаловского сельского поселения»- 7 328,2тыс.руб.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7" name=""/>
          <p:cNvSpPr/>
          <p:nvPr/>
        </p:nvSpPr>
        <p:spPr>
          <a:xfrm>
            <a:off x="1030320" y="2068560"/>
            <a:ext cx="401760" cy="374760"/>
          </a:xfrm>
          <a:custGeom>
            <a:avLst/>
            <a:gdLst/>
            <a:ahLst/>
            <a:rect l="l" t="t" r="r" b="b"/>
            <a:pathLst>
              <a:path w="1117" h="1042">
                <a:moveTo>
                  <a:pt x="279" y="0"/>
                </a:moveTo>
                <a:lnTo>
                  <a:pt x="279" y="521"/>
                </a:lnTo>
                <a:lnTo>
                  <a:pt x="0" y="521"/>
                </a:lnTo>
                <a:lnTo>
                  <a:pt x="558" y="1042"/>
                </a:lnTo>
                <a:lnTo>
                  <a:pt x="1117" y="521"/>
                </a:lnTo>
                <a:lnTo>
                  <a:pt x="837" y="521"/>
                </a:lnTo>
                <a:lnTo>
                  <a:pt x="837" y="0"/>
                </a:lnTo>
                <a:lnTo>
                  <a:pt x="279" y="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8" name=""/>
          <p:cNvSpPr/>
          <p:nvPr/>
        </p:nvSpPr>
        <p:spPr>
          <a:xfrm>
            <a:off x="114480" y="2443320"/>
            <a:ext cx="2157120" cy="91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адковые мероприятия, страхование гражданской ответственности за причинение вреда при аварии на Байкаловском гидроузле на р.Елинка в с.Байкалово- 315,0 тыс.руб.</a:t>
            </a:r>
            <a:endParaRPr b="0" lang="en-US" sz="9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114480" y="4402080"/>
            <a:ext cx="2157120" cy="23367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381400" y="1859040"/>
            <a:ext cx="2409840" cy="4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транспортного обслуживания населения автомобильным транспортом -     3 635,0 тыс.руб. </a:t>
            </a:r>
            <a:endParaRPr b="0" lang="en-US" sz="9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1" name=""/>
          <p:cNvSpPr/>
          <p:nvPr/>
        </p:nvSpPr>
        <p:spPr>
          <a:xfrm>
            <a:off x="3184560" y="1639800"/>
            <a:ext cx="328680" cy="219240"/>
          </a:xfrm>
          <a:custGeom>
            <a:avLst/>
            <a:gdLst/>
            <a:ahLst/>
            <a:rect l="l" t="t" r="r" b="b"/>
            <a:pathLst>
              <a:path w="913" h="610">
                <a:moveTo>
                  <a:pt x="228" y="0"/>
                </a:moveTo>
                <a:lnTo>
                  <a:pt x="228" y="305"/>
                </a:lnTo>
                <a:lnTo>
                  <a:pt x="0" y="305"/>
                </a:lnTo>
                <a:lnTo>
                  <a:pt x="456" y="610"/>
                </a:lnTo>
                <a:lnTo>
                  <a:pt x="913" y="305"/>
                </a:lnTo>
                <a:lnTo>
                  <a:pt x="685" y="305"/>
                </a:lnTo>
                <a:lnTo>
                  <a:pt x="685" y="0"/>
                </a:lnTo>
                <a:lnTo>
                  <a:pt x="228" y="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2" name=""/>
          <p:cNvSpPr/>
          <p:nvPr/>
        </p:nvSpPr>
        <p:spPr>
          <a:xfrm>
            <a:off x="2381400" y="2443320"/>
            <a:ext cx="2409840" cy="76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нструкция ул. Набережная, пер. Набережный, пер.Новый, ул.Крестьянская, ул. Октябрьская, пер. Октябрьский, ул. Февральская, ул. Красноармейская в с.Байкалово – 25 359,8 тыс.руб.</a:t>
            </a:r>
            <a:endParaRPr b="0" lang="en-US" sz="9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3" name=""/>
          <p:cNvSpPr/>
          <p:nvPr/>
        </p:nvSpPr>
        <p:spPr>
          <a:xfrm>
            <a:off x="2381400" y="3362400"/>
            <a:ext cx="240984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тройство автомобильных дорог вблизи образовательных учреждений – 4 335,0 тыс.руб.</a:t>
            </a:r>
            <a:endParaRPr b="0" lang="en-US" sz="9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4" name=""/>
          <p:cNvSpPr/>
          <p:nvPr/>
        </p:nvSpPr>
        <p:spPr>
          <a:xfrm>
            <a:off x="2381400" y="4041720"/>
            <a:ext cx="240984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1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автомобильных дорог общего пользования местного значения и искусственных сооружений на них- 7 064,3 тыс.руб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5" name=""/>
          <p:cNvSpPr/>
          <p:nvPr/>
        </p:nvSpPr>
        <p:spPr>
          <a:xfrm>
            <a:off x="5740560" y="2151000"/>
            <a:ext cx="415800" cy="292320"/>
          </a:xfrm>
          <a:custGeom>
            <a:avLst/>
            <a:gdLst/>
            <a:ahLst/>
            <a:rect l="l" t="t" r="r" b="b"/>
            <a:pathLst>
              <a:path w="1156" h="813">
                <a:moveTo>
                  <a:pt x="289" y="0"/>
                </a:moveTo>
                <a:lnTo>
                  <a:pt x="289" y="406"/>
                </a:lnTo>
                <a:lnTo>
                  <a:pt x="0" y="406"/>
                </a:lnTo>
                <a:lnTo>
                  <a:pt x="578" y="813"/>
                </a:lnTo>
                <a:lnTo>
                  <a:pt x="1156" y="406"/>
                </a:lnTo>
                <a:lnTo>
                  <a:pt x="867" y="406"/>
                </a:lnTo>
                <a:lnTo>
                  <a:pt x="867" y="0"/>
                </a:lnTo>
                <a:lnTo>
                  <a:pt x="289" y="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6" name=""/>
          <p:cNvSpPr/>
          <p:nvPr/>
        </p:nvSpPr>
        <p:spPr>
          <a:xfrm>
            <a:off x="4900680" y="2443320"/>
            <a:ext cx="4084560" cy="43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автогрейдера по договору финансовой аренды (лизинг), его содержание и распоряжение-  7 181,2 тыс.руб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7" name=""/>
          <p:cNvSpPr/>
          <p:nvPr/>
        </p:nvSpPr>
        <p:spPr>
          <a:xfrm>
            <a:off x="4900680" y="3081240"/>
            <a:ext cx="4084560" cy="38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ая оценка недвижимого и движимого имущества-  27,0 тыс.руб.</a:t>
            </a:r>
            <a:endParaRPr b="0" lang="en-US" sz="9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7015320" y="4597560"/>
            <a:ext cx="1082520" cy="10825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7"/>
          <a:stretch/>
        </p:blipFill>
        <p:spPr>
          <a:xfrm>
            <a:off x="7164360" y="3643200"/>
            <a:ext cx="1820880" cy="10810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8"/>
          <a:stretch/>
        </p:blipFill>
        <p:spPr>
          <a:xfrm>
            <a:off x="4900680" y="4761000"/>
            <a:ext cx="2114640" cy="19778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2381400" y="4905360"/>
            <a:ext cx="240984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1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части полномочий муниципального района по содержанию автомобильных дорог местного значения вне границ населенных пунктов в границах муниципального района- 524,7 тыс.руб.</a:t>
            </a:r>
            <a:endParaRPr b="0" lang="en-US" sz="9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3" name=""/>
          <p:cNvSpPr/>
          <p:nvPr/>
        </p:nvSpPr>
        <p:spPr>
          <a:xfrm>
            <a:off x="2381400" y="6075360"/>
            <a:ext cx="2409840" cy="66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е щебнем автомобильной дороги общего пользования  местного значения по ул.Репина,  ул. Аэродромная  в с.Байкалово - 6 477,0 тыс.руб.</a:t>
            </a:r>
            <a:endParaRPr b="0" lang="en-US" sz="9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4" name=""/>
          <p:cNvSpPr/>
          <p:nvPr/>
        </p:nvSpPr>
        <p:spPr>
          <a:xfrm>
            <a:off x="4900680" y="3643200"/>
            <a:ext cx="222732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приятия по приобретению, содержанию, управлению и распоряжению муниципальной собственностью, содержанию имущества в безвозмездном пользовании- 120,0 тыс.руб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5" name=""/>
          <p:cNvSpPr/>
          <p:nvPr/>
        </p:nvSpPr>
        <p:spPr>
          <a:xfrm>
            <a:off x="114480" y="3537000"/>
            <a:ext cx="2157120" cy="75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льный ремонт гидроузла на р.Елинка в с.Байкалово Байкаловского района Свердловской области- 2 029,0 тыс.руб.</a:t>
            </a:r>
            <a:endParaRPr b="0" lang="en-US" sz="9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281160" y="109440"/>
            <a:ext cx="8766000" cy="9637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27160" y="907920"/>
            <a:ext cx="2263680" cy="109692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рограмма «Капитальный ремонт муниципального жилищного фонда  Байкаловского сельского поселения» -            993,2 тыс.руб.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8" name=""/>
          <p:cNvSpPr/>
          <p:nvPr/>
        </p:nvSpPr>
        <p:spPr>
          <a:xfrm>
            <a:off x="263520" y="2492280"/>
            <a:ext cx="2246400" cy="68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льный ремонт муниципального жилищного фонда– 451,1 тыс.руб. </a:t>
            </a:r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9" name=""/>
          <p:cNvSpPr/>
          <p:nvPr/>
        </p:nvSpPr>
        <p:spPr>
          <a:xfrm>
            <a:off x="263520" y="3381480"/>
            <a:ext cx="2246400" cy="88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носы на капитальный ремонт общего имущества в многоквартирных домах – 542,1 тыс.руб.</a:t>
            </a:r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0" name=""/>
          <p:cNvSpPr/>
          <p:nvPr/>
        </p:nvSpPr>
        <p:spPr>
          <a:xfrm>
            <a:off x="1066680" y="2004840"/>
            <a:ext cx="511200" cy="328680"/>
          </a:xfrm>
          <a:custGeom>
            <a:avLst/>
            <a:gdLst/>
            <a:ahLst/>
            <a:rect l="l" t="t" r="r" b="b"/>
            <a:pathLst>
              <a:path w="1421" h="913">
                <a:moveTo>
                  <a:pt x="355" y="0"/>
                </a:moveTo>
                <a:lnTo>
                  <a:pt x="355" y="456"/>
                </a:lnTo>
                <a:lnTo>
                  <a:pt x="0" y="456"/>
                </a:lnTo>
                <a:lnTo>
                  <a:pt x="710" y="913"/>
                </a:lnTo>
                <a:lnTo>
                  <a:pt x="1421" y="456"/>
                </a:lnTo>
                <a:lnTo>
                  <a:pt x="1065" y="456"/>
                </a:lnTo>
                <a:lnTo>
                  <a:pt x="1065" y="0"/>
                </a:lnTo>
                <a:lnTo>
                  <a:pt x="355" y="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1" name=""/>
          <p:cNvSpPr/>
          <p:nvPr/>
        </p:nvSpPr>
        <p:spPr>
          <a:xfrm>
            <a:off x="3330720" y="907920"/>
            <a:ext cx="2628720" cy="226548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рограмма «Формирование жилищного фонда для переселения граждан из жилых помещений, признанных непригодными для проживания и (или) с высоким уровнем износа,  и обеспечение малоимущих граждан жилыми помещениями по договорам социального найма на территории  Байкаловского сельского поселения» - 60 580,0 тыс.руб.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2" name=""/>
          <p:cNvSpPr/>
          <p:nvPr/>
        </p:nvSpPr>
        <p:spPr>
          <a:xfrm>
            <a:off x="4280040" y="3173400"/>
            <a:ext cx="693720" cy="179280"/>
          </a:xfrm>
          <a:custGeom>
            <a:avLst/>
            <a:gdLst/>
            <a:ahLst/>
            <a:rect l="l" t="t" r="r" b="b"/>
            <a:pathLst>
              <a:path w="1928" h="499">
                <a:moveTo>
                  <a:pt x="482" y="0"/>
                </a:moveTo>
                <a:lnTo>
                  <a:pt x="482" y="249"/>
                </a:lnTo>
                <a:lnTo>
                  <a:pt x="0" y="249"/>
                </a:lnTo>
                <a:lnTo>
                  <a:pt x="964" y="499"/>
                </a:lnTo>
                <a:lnTo>
                  <a:pt x="1928" y="249"/>
                </a:lnTo>
                <a:lnTo>
                  <a:pt x="1446" y="249"/>
                </a:lnTo>
                <a:lnTo>
                  <a:pt x="1446" y="0"/>
                </a:lnTo>
                <a:lnTo>
                  <a:pt x="482" y="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3" name=""/>
          <p:cNvSpPr/>
          <p:nvPr/>
        </p:nvSpPr>
        <p:spPr>
          <a:xfrm>
            <a:off x="2735280" y="3381480"/>
            <a:ext cx="3492360" cy="44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с жилых домов, признанных не пригодными для проживания– 1 080,0тыс.руб.</a:t>
            </a:r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4" name=""/>
          <p:cNvSpPr/>
          <p:nvPr/>
        </p:nvSpPr>
        <p:spPr>
          <a:xfrm>
            <a:off x="6397560" y="907920"/>
            <a:ext cx="2482920" cy="138600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рограмма «Энергосбережение и повышение энергетической эффективности на территории Байкаловского сельского поселения»-925,0 тыс.руб.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5" name=""/>
          <p:cNvSpPr/>
          <p:nvPr/>
        </p:nvSpPr>
        <p:spPr>
          <a:xfrm>
            <a:off x="7346880" y="2295360"/>
            <a:ext cx="463680" cy="304920"/>
          </a:xfrm>
          <a:custGeom>
            <a:avLst/>
            <a:gdLst/>
            <a:ahLst/>
            <a:rect l="l" t="t" r="r" b="b"/>
            <a:pathLst>
              <a:path w="1289" h="848">
                <a:moveTo>
                  <a:pt x="322" y="0"/>
                </a:moveTo>
                <a:lnTo>
                  <a:pt x="322" y="424"/>
                </a:lnTo>
                <a:lnTo>
                  <a:pt x="0" y="424"/>
                </a:lnTo>
                <a:lnTo>
                  <a:pt x="644" y="848"/>
                </a:lnTo>
                <a:lnTo>
                  <a:pt x="1289" y="424"/>
                </a:lnTo>
                <a:lnTo>
                  <a:pt x="966" y="424"/>
                </a:lnTo>
                <a:lnTo>
                  <a:pt x="966" y="0"/>
                </a:lnTo>
                <a:lnTo>
                  <a:pt x="322" y="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390600" y="4484520"/>
            <a:ext cx="5261040" cy="22766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6397560" y="2833560"/>
            <a:ext cx="2482920" cy="143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льный ремонт сетей теплоснабжения по ул. Свердлова, ул. Советской Конституции, ул. Мальгина  в с. Байкалово –925,0 тыс.руб. </a:t>
            </a:r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5832360" y="4484520"/>
            <a:ext cx="3168720" cy="22766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2735280" y="3933720"/>
            <a:ext cx="349236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ление граждан из аварийного жилищного фонда – 59 500,0тыс.руб.</a:t>
            </a:r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5256360" y="3267000"/>
            <a:ext cx="3725640" cy="3438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304920" y="79200"/>
            <a:ext cx="8881920" cy="10908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254160" y="836640"/>
            <a:ext cx="4465440" cy="40176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рограмма «Благоустройство БСП» -  34 646,0 тыс.руб.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3" name=""/>
          <p:cNvSpPr/>
          <p:nvPr/>
        </p:nvSpPr>
        <p:spPr>
          <a:xfrm>
            <a:off x="2158920" y="1236600"/>
            <a:ext cx="611280" cy="270000"/>
          </a:xfrm>
          <a:custGeom>
            <a:avLst/>
            <a:gdLst/>
            <a:ahLst/>
            <a:rect l="l" t="t" r="r" b="b"/>
            <a:pathLst>
              <a:path w="1699" h="751">
                <a:moveTo>
                  <a:pt x="424" y="0"/>
                </a:moveTo>
                <a:lnTo>
                  <a:pt x="424" y="375"/>
                </a:lnTo>
                <a:lnTo>
                  <a:pt x="0" y="375"/>
                </a:lnTo>
                <a:lnTo>
                  <a:pt x="849" y="751"/>
                </a:lnTo>
                <a:lnTo>
                  <a:pt x="1699" y="375"/>
                </a:lnTo>
                <a:lnTo>
                  <a:pt x="1274" y="375"/>
                </a:lnTo>
                <a:lnTo>
                  <a:pt x="1274" y="0"/>
                </a:lnTo>
                <a:lnTo>
                  <a:pt x="424" y="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1506600"/>
            <a:ext cx="4465440" cy="38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деятельности МКУ «Служба по благоустройству» БСП -              9 122,0 тыс.руб.</a:t>
            </a:r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2162160"/>
            <a:ext cx="4465440" cy="30816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территорий общего пользования-10,5  тыс.руб.</a:t>
            </a:r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6" name=""/>
          <p:cNvSpPr/>
          <p:nvPr/>
        </p:nvSpPr>
        <p:spPr>
          <a:xfrm>
            <a:off x="5256360" y="836640"/>
            <a:ext cx="3733560" cy="116820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рограмма «Повышение эффективности управления муниципальной собственностью  Байкаловского сельского поселения» -                     300,0 тыс.руб.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7" name=""/>
          <p:cNvSpPr/>
          <p:nvPr/>
        </p:nvSpPr>
        <p:spPr>
          <a:xfrm>
            <a:off x="6872400" y="2004840"/>
            <a:ext cx="474480" cy="314640"/>
          </a:xfrm>
          <a:custGeom>
            <a:avLst/>
            <a:gdLst/>
            <a:ahLst/>
            <a:rect l="l" t="t" r="r" b="b"/>
            <a:pathLst>
              <a:path w="1319" h="875">
                <a:moveTo>
                  <a:pt x="329" y="0"/>
                </a:moveTo>
                <a:lnTo>
                  <a:pt x="329" y="437"/>
                </a:lnTo>
                <a:lnTo>
                  <a:pt x="0" y="437"/>
                </a:lnTo>
                <a:lnTo>
                  <a:pt x="659" y="875"/>
                </a:lnTo>
                <a:lnTo>
                  <a:pt x="1319" y="437"/>
                </a:lnTo>
                <a:lnTo>
                  <a:pt x="989" y="437"/>
                </a:lnTo>
                <a:lnTo>
                  <a:pt x="989" y="0"/>
                </a:lnTo>
                <a:lnTo>
                  <a:pt x="329" y="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8" name=""/>
          <p:cNvSpPr/>
          <p:nvPr/>
        </p:nvSpPr>
        <p:spPr>
          <a:xfrm>
            <a:off x="5256360" y="2470320"/>
            <a:ext cx="3733560" cy="59832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населения банными услугами -300,0 тыс.руб.</a:t>
            </a:r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9" name=""/>
          <p:cNvSpPr/>
          <p:nvPr/>
        </p:nvSpPr>
        <p:spPr>
          <a:xfrm>
            <a:off x="254160" y="1895400"/>
            <a:ext cx="4462200" cy="246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уличного освещения-13 649,2 тыс.руб.</a:t>
            </a:r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0" name=""/>
          <p:cNvSpPr/>
          <p:nvPr/>
        </p:nvSpPr>
        <p:spPr>
          <a:xfrm>
            <a:off x="250920" y="2470320"/>
            <a:ext cx="4465440" cy="419040"/>
          </a:xfrm>
          <a:prstGeom prst="rect">
            <a:avLst/>
          </a:prstGeom>
          <a:solidFill>
            <a:srgbClr val="ffffff"/>
          </a:solidFill>
          <a:ln w="2556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содержание мест захоронения – 233,2  тыс.руб.;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формление Новогоднего городка - 77,2 тыс.руб.; </a:t>
            </a:r>
            <a:endParaRPr b="0" lang="en-US" sz="9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1" name=""/>
          <p:cNvSpPr/>
          <p:nvPr/>
        </p:nvSpPr>
        <p:spPr>
          <a:xfrm>
            <a:off x="250920" y="3267000"/>
            <a:ext cx="4465440" cy="52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екта «Создание и обустройство комбинированной спортивной и детской игровой площадки в с. Байкалово » в рамках инициативного бюджетирования – 1 999,8 тыс.руб </a:t>
            </a:r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2" name=""/>
          <p:cNvSpPr/>
          <p:nvPr/>
        </p:nvSpPr>
        <p:spPr>
          <a:xfrm>
            <a:off x="250920" y="4815000"/>
            <a:ext cx="4465440" cy="53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екта «Обустройство рынка по адресу: с. Байкалово, ул. Революции, строение 5» в рамках инициативного бюджетирования – 2 040,0 тыс.руб.</a:t>
            </a:r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5346720"/>
            <a:ext cx="4465440" cy="49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восстановление и содержание памятников, памятных знаков, иных мемориальных объектов, увековечивающих память земляков, погибших при защите Отечества – 1 700,0 тыс.руб.</a:t>
            </a:r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4" name=""/>
          <p:cNvSpPr/>
          <p:nvPr/>
        </p:nvSpPr>
        <p:spPr>
          <a:xfrm>
            <a:off x="250920" y="5845320"/>
            <a:ext cx="447984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части полномочий МР  по содержанию мест (площадок) накопления твердых коммунальных отходов - 1 757,3 тыс.руб.</a:t>
            </a:r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5" name=""/>
          <p:cNvSpPr/>
          <p:nvPr/>
        </p:nvSpPr>
        <p:spPr>
          <a:xfrm>
            <a:off x="250920" y="4365720"/>
            <a:ext cx="4468680" cy="44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екта « Медиа экран » в рамках инициативного бюджетирования – 765,0 тыс.руб.</a:t>
            </a:r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6" name=""/>
          <p:cNvSpPr/>
          <p:nvPr/>
        </p:nvSpPr>
        <p:spPr>
          <a:xfrm>
            <a:off x="250920" y="2889360"/>
            <a:ext cx="4479840" cy="37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ка, обеспечение сохранности и демонтаж мемориальных досок и иных памятных знаков – 100,0 тыс.руб.</a:t>
            </a:r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7" name=""/>
          <p:cNvSpPr/>
          <p:nvPr/>
        </p:nvSpPr>
        <p:spPr>
          <a:xfrm>
            <a:off x="250920" y="3789360"/>
            <a:ext cx="44654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екта «Создание и обустройство комбинированной спортивной и детской игровой площадки в с. Ляпунова » в рамках инициативного бюджетирования – 2 041,8 тыс.руб.</a:t>
            </a:r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8" name=""/>
          <p:cNvSpPr/>
          <p:nvPr/>
        </p:nvSpPr>
        <p:spPr>
          <a:xfrm>
            <a:off x="254160" y="6273720"/>
            <a:ext cx="44766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екта « Сафоновская веранда » в рамках инициативного бюджетирования – 1 150,0 тыс.руб..</a:t>
            </a:r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506520" y="328680"/>
            <a:ext cx="8246880" cy="9637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216000" y="1123920"/>
            <a:ext cx="6048360" cy="88740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одпрограмма «Чистая вода и экология БСП» -                382 018,9 тыс.руб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2011320"/>
            <a:ext cx="828720" cy="316080"/>
          </a:xfrm>
          <a:custGeom>
            <a:avLst/>
            <a:gdLst/>
            <a:ahLst/>
            <a:rect l="l" t="t" r="r" b="b"/>
            <a:pathLst>
              <a:path w="2303" h="879">
                <a:moveTo>
                  <a:pt x="575" y="0"/>
                </a:moveTo>
                <a:lnTo>
                  <a:pt x="575" y="394"/>
                </a:lnTo>
                <a:lnTo>
                  <a:pt x="0" y="394"/>
                </a:lnTo>
                <a:lnTo>
                  <a:pt x="1151" y="879"/>
                </a:lnTo>
                <a:lnTo>
                  <a:pt x="2303" y="394"/>
                </a:lnTo>
                <a:lnTo>
                  <a:pt x="1727" y="394"/>
                </a:lnTo>
                <a:lnTo>
                  <a:pt x="1727" y="0"/>
                </a:lnTo>
                <a:lnTo>
                  <a:pt x="575" y="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2" name=""/>
          <p:cNvSpPr/>
          <p:nvPr/>
        </p:nvSpPr>
        <p:spPr>
          <a:xfrm>
            <a:off x="216000" y="2327400"/>
            <a:ext cx="2916000" cy="52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ство сетей водоснабжения в с.Байкалово – 9 750,4 тыс.руб.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3648240" y="3933720"/>
            <a:ext cx="2795400" cy="27720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>
            <a:off x="216000" y="3933720"/>
            <a:ext cx="3276360" cy="2772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3492360" y="2327400"/>
            <a:ext cx="2772000" cy="633240"/>
          </a:xfrm>
          <a:prstGeom prst="rect">
            <a:avLst/>
          </a:prstGeom>
          <a:noFill/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ство системы водоотведения в с.Байкалово – 16 996,0 тыс. руб.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6" name=""/>
          <p:cNvSpPr/>
          <p:nvPr/>
        </p:nvSpPr>
        <p:spPr>
          <a:xfrm>
            <a:off x="216000" y="2960640"/>
            <a:ext cx="2916000" cy="792360"/>
          </a:xfrm>
          <a:prstGeom prst="rect">
            <a:avLst/>
          </a:prstGeom>
          <a:noFill/>
          <a:ln w="25560">
            <a:solidFill>
              <a:srgbClr val="79a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 согласование проектов зон санитарной охраны источников водоснабжения, проектов геологического изучения недр -910,0 тыс.руб.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7" name=""/>
          <p:cNvSpPr/>
          <p:nvPr/>
        </p:nvSpPr>
        <p:spPr>
          <a:xfrm>
            <a:off x="6443640" y="2529000"/>
            <a:ext cx="2521080" cy="104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на исполнение судебных актов, актов службы судебных приставов, надзорных органов, мировых соглашений- 573,9 тыс.руб.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1123920"/>
            <a:ext cx="2521080" cy="104616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Непрограммные направления деятельности- 573,9 тыс.руб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9" name=""/>
          <p:cNvSpPr/>
          <p:nvPr/>
        </p:nvSpPr>
        <p:spPr>
          <a:xfrm>
            <a:off x="7378560" y="2170080"/>
            <a:ext cx="828720" cy="314280"/>
          </a:xfrm>
          <a:custGeom>
            <a:avLst/>
            <a:gdLst/>
            <a:ahLst/>
            <a:rect l="l" t="t" r="r" b="b"/>
            <a:pathLst>
              <a:path w="2303" h="874">
                <a:moveTo>
                  <a:pt x="575" y="0"/>
                </a:moveTo>
                <a:lnTo>
                  <a:pt x="575" y="392"/>
                </a:lnTo>
                <a:lnTo>
                  <a:pt x="0" y="392"/>
                </a:lnTo>
                <a:lnTo>
                  <a:pt x="1151" y="874"/>
                </a:lnTo>
                <a:lnTo>
                  <a:pt x="2303" y="392"/>
                </a:lnTo>
                <a:lnTo>
                  <a:pt x="1727" y="392"/>
                </a:lnTo>
                <a:lnTo>
                  <a:pt x="1727" y="0"/>
                </a:lnTo>
                <a:lnTo>
                  <a:pt x="575" y="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6622920" y="3657600"/>
            <a:ext cx="2341800" cy="30481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3492360" y="3051000"/>
            <a:ext cx="2772000" cy="606600"/>
          </a:xfrm>
          <a:prstGeom prst="rect">
            <a:avLst/>
          </a:prstGeom>
          <a:noFill/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ство и реконструкция систем и (или) объектов коммунальной инфраструктуры – 355 272,5 тыс. руб.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8686800" cy="10908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906560" y="873000"/>
            <a:ext cx="5732640" cy="49212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рограмма «Молодежная политика БСП»  -                         50,0 тыс.руб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4" name=""/>
          <p:cNvSpPr/>
          <p:nvPr/>
        </p:nvSpPr>
        <p:spPr>
          <a:xfrm>
            <a:off x="2179800" y="1365120"/>
            <a:ext cx="657000" cy="479520"/>
          </a:xfrm>
          <a:custGeom>
            <a:avLst/>
            <a:gdLst/>
            <a:ahLst/>
            <a:rect l="l" t="t" r="r" b="b"/>
            <a:pathLst>
              <a:path w="1826" h="1333">
                <a:moveTo>
                  <a:pt x="456" y="0"/>
                </a:moveTo>
                <a:lnTo>
                  <a:pt x="456" y="666"/>
                </a:lnTo>
                <a:lnTo>
                  <a:pt x="0" y="666"/>
                </a:lnTo>
                <a:lnTo>
                  <a:pt x="913" y="1333"/>
                </a:lnTo>
                <a:lnTo>
                  <a:pt x="1826" y="666"/>
                </a:lnTo>
                <a:lnTo>
                  <a:pt x="1369" y="666"/>
                </a:lnTo>
                <a:lnTo>
                  <a:pt x="1369" y="0"/>
                </a:lnTo>
                <a:lnTo>
                  <a:pt x="456" y="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5" name=""/>
          <p:cNvSpPr/>
          <p:nvPr/>
        </p:nvSpPr>
        <p:spPr>
          <a:xfrm>
            <a:off x="409680" y="2097000"/>
            <a:ext cx="41986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проведение праздников, фестивалей, конкурсов для детей и молодежи – 34,0 тыс.руб.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409680" y="3846600"/>
            <a:ext cx="4362480" cy="27954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046840" y="4314960"/>
            <a:ext cx="3871800" cy="23270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409680" y="2948040"/>
            <a:ext cx="4198680" cy="625320"/>
          </a:xfrm>
          <a:prstGeom prst="rect">
            <a:avLst/>
          </a:prstGeom>
          <a:noFill/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ощрение выпускников общеобразовательных школ, награжденных медалями «За особые успехи в учении»- 16,0 тыс. руб.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5046840" y="1671480"/>
            <a:ext cx="3871800" cy="25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239760" y="5035680"/>
            <a:ext cx="3030480" cy="17064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304920" y="55440"/>
            <a:ext cx="8686800" cy="12240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013200" y="1636560"/>
            <a:ext cx="803160" cy="730440"/>
          </a:xfrm>
          <a:custGeom>
            <a:avLst/>
            <a:gdLst/>
            <a:ahLst/>
            <a:rect l="l" t="t" r="r" b="b"/>
            <a:pathLst>
              <a:path w="2232" h="2030">
                <a:moveTo>
                  <a:pt x="558" y="0"/>
                </a:moveTo>
                <a:lnTo>
                  <a:pt x="558" y="1015"/>
                </a:lnTo>
                <a:lnTo>
                  <a:pt x="0" y="1015"/>
                </a:lnTo>
                <a:lnTo>
                  <a:pt x="1116" y="2030"/>
                </a:lnTo>
                <a:lnTo>
                  <a:pt x="2232" y="1015"/>
                </a:lnTo>
                <a:lnTo>
                  <a:pt x="1674" y="1015"/>
                </a:lnTo>
                <a:lnTo>
                  <a:pt x="1674" y="0"/>
                </a:lnTo>
                <a:lnTo>
                  <a:pt x="558" y="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3" name=""/>
          <p:cNvSpPr/>
          <p:nvPr/>
        </p:nvSpPr>
        <p:spPr>
          <a:xfrm>
            <a:off x="227160" y="981000"/>
            <a:ext cx="6222960" cy="79236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рограмма «Развитие культурно-досуговой деятельности БСП» - 70 176,1 тыс.руб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4" name=""/>
          <p:cNvSpPr/>
          <p:nvPr/>
        </p:nvSpPr>
        <p:spPr>
          <a:xfrm>
            <a:off x="227160" y="2421000"/>
            <a:ext cx="3054240" cy="60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административно-управленческого аппарата культурно-досуговых центров – 6 005,0 тыс.руб.</a:t>
            </a:r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5" name=""/>
          <p:cNvSpPr/>
          <p:nvPr/>
        </p:nvSpPr>
        <p:spPr>
          <a:xfrm>
            <a:off x="227160" y="3284640"/>
            <a:ext cx="30542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ятельности учреждений культуры и искусства культурно-досуговой сферы – 42 756,0 тыс.руб.</a:t>
            </a:r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6513480" y="1027080"/>
            <a:ext cx="2533680" cy="1882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27160" y="4030560"/>
            <a:ext cx="3054240" cy="85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библиотечного обслуживания населения, формирование и хранение библиотечных фондов, информатизация муниципальных библиотек –12 636,0 тыс.руб.</a:t>
            </a:r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5"/>
          <a:stretch/>
        </p:blipFill>
        <p:spPr>
          <a:xfrm>
            <a:off x="6546960" y="3027240"/>
            <a:ext cx="2517840" cy="200844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6"/>
          <a:stretch/>
        </p:blipFill>
        <p:spPr>
          <a:xfrm>
            <a:off x="6531120" y="5157720"/>
            <a:ext cx="2533680" cy="15843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7"/>
          <a:stretch/>
        </p:blipFill>
        <p:spPr>
          <a:xfrm>
            <a:off x="3516480" y="4329000"/>
            <a:ext cx="2933640" cy="24130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3516480" y="2421000"/>
            <a:ext cx="271116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екта «Детская киностудия» в рамках инициативного бюджетирования -1 772,1 тыс.руб.</a:t>
            </a:r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2" name=""/>
          <p:cNvSpPr/>
          <p:nvPr/>
        </p:nvSpPr>
        <p:spPr>
          <a:xfrm>
            <a:off x="3516480" y="3600360"/>
            <a:ext cx="2711160" cy="51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 кинопоказа- 7 007,0 тыс.руб.</a:t>
            </a:r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469800" y="244440"/>
            <a:ext cx="8466120" cy="12240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287280" y="3213000"/>
            <a:ext cx="4137120" cy="33242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4824360" y="3213000"/>
            <a:ext cx="4103640" cy="33242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5"/>
          <a:stretch/>
        </p:blipFill>
        <p:spPr>
          <a:xfrm>
            <a:off x="2556000" y="1125360"/>
            <a:ext cx="410364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304920" y="55440"/>
            <a:ext cx="8686800" cy="12240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154080" y="909720"/>
            <a:ext cx="4022640" cy="118728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рограмма «Осуществление мероприятий социальной политики Байкаловского сельского поселения» - 451,8 тыс.руб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9" name=""/>
          <p:cNvSpPr/>
          <p:nvPr/>
        </p:nvSpPr>
        <p:spPr>
          <a:xfrm>
            <a:off x="1833480" y="2097000"/>
            <a:ext cx="657360" cy="324000"/>
          </a:xfrm>
          <a:custGeom>
            <a:avLst/>
            <a:gdLst/>
            <a:ahLst/>
            <a:rect l="l" t="t" r="r" b="b"/>
            <a:pathLst>
              <a:path w="1827" h="901">
                <a:moveTo>
                  <a:pt x="456" y="0"/>
                </a:moveTo>
                <a:lnTo>
                  <a:pt x="456" y="450"/>
                </a:lnTo>
                <a:lnTo>
                  <a:pt x="0" y="450"/>
                </a:lnTo>
                <a:lnTo>
                  <a:pt x="913" y="901"/>
                </a:lnTo>
                <a:lnTo>
                  <a:pt x="1827" y="450"/>
                </a:lnTo>
                <a:lnTo>
                  <a:pt x="1370" y="450"/>
                </a:lnTo>
                <a:lnTo>
                  <a:pt x="1370" y="0"/>
                </a:lnTo>
                <a:lnTo>
                  <a:pt x="456" y="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0" name=""/>
          <p:cNvSpPr/>
          <p:nvPr/>
        </p:nvSpPr>
        <p:spPr>
          <a:xfrm>
            <a:off x="227160" y="2421000"/>
            <a:ext cx="3213000" cy="12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проведение мероприятий, акций, конкурсов, направленных на развитие и поддержку общественного ветеранского движения, активной жизнедеятельности ветеранов, граждан пожилого возраста, на укрепление связи и преемственности поколений -284,2 тыс.руб.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1" name=""/>
          <p:cNvSpPr/>
          <p:nvPr/>
        </p:nvSpPr>
        <p:spPr>
          <a:xfrm>
            <a:off x="227160" y="4775040"/>
            <a:ext cx="3213000" cy="81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проведение мероприятий, акций, конкурсов, направленных на повышение и укрепление статуса семьи – 29,3 тыс.руб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2" name=""/>
          <p:cNvSpPr/>
          <p:nvPr/>
        </p:nvSpPr>
        <p:spPr>
          <a:xfrm>
            <a:off x="227160" y="5732640"/>
            <a:ext cx="3213000" cy="94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ая поддержка граждан Байкаловского сельского поселения, носящих звание «Почетный гражданин Байкаловского сельского поселения», и членов их семей- 82,0 тыс.руб.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3884760" y="3346560"/>
            <a:ext cx="5078160" cy="28573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227160" y="3824280"/>
            <a:ext cx="3213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проведение праздничных мероприятий для населения, направленных на поддержку сложившихся традиций и обычаев -56,3 тыс.руб.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5" name=""/>
          <p:cNvSpPr/>
          <p:nvPr/>
        </p:nvSpPr>
        <p:spPr>
          <a:xfrm>
            <a:off x="4788000" y="909720"/>
            <a:ext cx="3564000" cy="104292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рограмма «Обеспечение жильем молодых семей» - 1 830,9 тыс.руб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6" name=""/>
          <p:cNvSpPr/>
          <p:nvPr/>
        </p:nvSpPr>
        <p:spPr>
          <a:xfrm>
            <a:off x="6242040" y="1963800"/>
            <a:ext cx="657360" cy="323640"/>
          </a:xfrm>
          <a:custGeom>
            <a:avLst/>
            <a:gdLst/>
            <a:ahLst/>
            <a:rect l="l" t="t" r="r" b="b"/>
            <a:pathLst>
              <a:path w="1827" h="900">
                <a:moveTo>
                  <a:pt x="456" y="0"/>
                </a:moveTo>
                <a:lnTo>
                  <a:pt x="456" y="450"/>
                </a:lnTo>
                <a:lnTo>
                  <a:pt x="0" y="450"/>
                </a:lnTo>
                <a:lnTo>
                  <a:pt x="913" y="900"/>
                </a:lnTo>
                <a:lnTo>
                  <a:pt x="1827" y="450"/>
                </a:lnTo>
                <a:lnTo>
                  <a:pt x="1370" y="450"/>
                </a:lnTo>
                <a:lnTo>
                  <a:pt x="1370" y="0"/>
                </a:lnTo>
                <a:lnTo>
                  <a:pt x="456" y="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7" name=""/>
          <p:cNvSpPr/>
          <p:nvPr/>
        </p:nvSpPr>
        <p:spPr>
          <a:xfrm>
            <a:off x="4788000" y="2287440"/>
            <a:ext cx="3564000" cy="76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социальных выплат молодым семьям на приобретение (строительств) жилья-       1 830,9 тыс.руб.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304920" y="55440"/>
            <a:ext cx="8686800" cy="12240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1258920" y="909720"/>
            <a:ext cx="6697800" cy="803160"/>
          </a:xfrm>
          <a:prstGeom prst="rect">
            <a:avLst/>
          </a:pr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рограмма «Развитие физической культуры и спорта в Байкаловском сельском поселении» - 4 110,9 тыс.руб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0" name=""/>
          <p:cNvSpPr/>
          <p:nvPr/>
        </p:nvSpPr>
        <p:spPr>
          <a:xfrm>
            <a:off x="3959280" y="1722600"/>
            <a:ext cx="912600" cy="488880"/>
          </a:xfrm>
          <a:custGeom>
            <a:avLst/>
            <a:gdLst/>
            <a:ahLst/>
            <a:rect l="l" t="t" r="r" b="b"/>
            <a:pathLst>
              <a:path w="2536" h="1359">
                <a:moveTo>
                  <a:pt x="634" y="0"/>
                </a:moveTo>
                <a:lnTo>
                  <a:pt x="634" y="679"/>
                </a:lnTo>
                <a:lnTo>
                  <a:pt x="0" y="679"/>
                </a:lnTo>
                <a:lnTo>
                  <a:pt x="1268" y="1359"/>
                </a:lnTo>
                <a:lnTo>
                  <a:pt x="2536" y="679"/>
                </a:lnTo>
                <a:lnTo>
                  <a:pt x="1902" y="679"/>
                </a:lnTo>
                <a:lnTo>
                  <a:pt x="1902" y="0"/>
                </a:lnTo>
                <a:lnTo>
                  <a:pt x="634" y="0"/>
                </a:lnTo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1" name=""/>
          <p:cNvSpPr/>
          <p:nvPr/>
        </p:nvSpPr>
        <p:spPr>
          <a:xfrm>
            <a:off x="1258920" y="2457360"/>
            <a:ext cx="6697800" cy="54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проведение физкультурно-оздоровительных мероприятий – 80,0 тыс.руб.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2" name=""/>
          <p:cNvSpPr/>
          <p:nvPr/>
        </p:nvSpPr>
        <p:spPr>
          <a:xfrm>
            <a:off x="1258920" y="3105000"/>
            <a:ext cx="669780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проведение спортивно-массовых мероприятий – 4 014,2 тыс.руб.; Содержание стадиона, расположенного по ул.Цельева  в с.Байкалово- 16,7 тыс.руб.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3949560" y="4572000"/>
            <a:ext cx="2670480" cy="24084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476280" y="3984480"/>
            <a:ext cx="3666960" cy="29098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5"/>
          <a:stretch/>
        </p:blipFill>
        <p:spPr>
          <a:xfrm>
            <a:off x="4017960" y="3906720"/>
            <a:ext cx="2535120" cy="23972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6"/>
          <a:stretch/>
        </p:blipFill>
        <p:spPr>
          <a:xfrm>
            <a:off x="6324480" y="4433760"/>
            <a:ext cx="259236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78000" y="139680"/>
            <a:ext cx="8669160" cy="1378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2920" y="1484280"/>
            <a:ext cx="88581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4572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457200" algn="just">
              <a:lnSpc>
                <a:spcPct val="10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юджетная политика будет ориентирована на последовательное повышение качества</a:t>
            </a:r>
            <a:r>
              <a:rPr b="0" lang="en-US" sz="1400" spc="-1" strike="noStrike">
                <a:solidFill>
                  <a:srgbClr val="404040"/>
                </a:solidFill>
                <a:latin typeface="Book Antiqu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изни граждан муниципального образования и создание условий для решения его неотложных</a:t>
            </a:r>
            <a:r>
              <a:rPr b="0" lang="en-US" sz="1400" spc="-1" strike="noStrike">
                <a:solidFill>
                  <a:srgbClr val="404040"/>
                </a:solidFill>
                <a:latin typeface="Book Antiqu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циально-экономических проблем.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457200" algn="just">
              <a:lnSpc>
                <a:spcPct val="10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новным инструментом для осуществления бюджетной политики Байкаловского</a:t>
            </a:r>
            <a:r>
              <a:rPr b="0" lang="en-US" sz="1400" spc="-1" strike="noStrike">
                <a:solidFill>
                  <a:srgbClr val="404040"/>
                </a:solidFill>
                <a:latin typeface="Book Antiqu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ельского поселения является эффективное управление средствами местного бюджета при</a:t>
            </a:r>
            <a:r>
              <a:rPr b="0" lang="en-US" sz="1400" spc="-1" strike="noStrike">
                <a:solidFill>
                  <a:srgbClr val="404040"/>
                </a:solidFill>
                <a:latin typeface="Book Antiqu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стижении основных целей социально-экономического развития Байкаловского сельского</a:t>
            </a:r>
            <a:r>
              <a:rPr b="0" lang="en-US" sz="1400" spc="-1" strike="noStrike">
                <a:solidFill>
                  <a:srgbClr val="404040"/>
                </a:solidFill>
                <a:latin typeface="Book Antiqu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еления.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457200" algn="just">
              <a:lnSpc>
                <a:spcPct val="10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юджетная политика Байкаловского сельского поселения будет направлена на</a:t>
            </a:r>
            <a:r>
              <a:rPr b="0" lang="en-US" sz="1400" spc="-1" strike="noStrike">
                <a:solidFill>
                  <a:srgbClr val="404040"/>
                </a:solidFill>
                <a:latin typeface="Book Antiqu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зусловное исполнение ранее принятых расходных обязательств, принятие новых бюджетных</a:t>
            </a:r>
            <a:r>
              <a:rPr b="0" lang="en-US" sz="1400" spc="-1" strike="noStrike">
                <a:solidFill>
                  <a:srgbClr val="404040"/>
                </a:solidFill>
                <a:latin typeface="Book Antiqu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язательств допускается только при условии их финансового обеспечения.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4572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Основными направлениями бюджетной политики в среднесрочной перспективе являются: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457200" algn="just">
              <a:lnSpc>
                <a:spcPct val="10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выбор и расстановка на ключевых социально-экономических направлениях развития Байкаловского сельского поселения, в том числе создание условий для обеспечения исполнения Президентского Указа от 21.07.2020 № 474 «О национальных целях и стратегических задачах развития Российской Федерации на период до 2030 года»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457200" algn="just">
              <a:lnSpc>
                <a:spcPct val="10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особое внимание уделять вопросам, связанным с обеспечением обязательств по повышению уровня оплаты труда работников, занятых в бюджетной сфере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457200" algn="just">
              <a:lnSpc>
                <a:spcPct val="10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в первоочередном порядке необходимо предусматривать бюджетные ассигнования на реализацию национальных и региональных проектов, Стратегии социально-экономического развития муниципального образования и муниципальных программ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457200" algn="just">
              <a:lnSpc>
                <a:spcPct val="10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) реализация мер по повышению эффективности и результативности бюджетных расходов, в том числе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circl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 rot="10800000">
            <a:off x="1692000" y="2799720"/>
            <a:ext cx="6646680" cy="104436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669960" y="291960"/>
            <a:ext cx="9120240" cy="77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"/>
          <p:cNvGraphicFramePr/>
          <p:nvPr/>
        </p:nvGraphicFramePr>
        <p:xfrm>
          <a:off x="755640" y="1341360"/>
          <a:ext cx="7994160" cy="1055520"/>
        </p:xfrm>
        <a:graphic>
          <a:graphicData uri="http://schemas.openxmlformats.org/drawingml/2006/table">
            <a:tbl>
              <a:tblPr/>
              <a:tblGrid>
                <a:gridCol w="1999080"/>
                <a:gridCol w="1999080"/>
                <a:gridCol w="1996920"/>
                <a:gridCol w="1999080"/>
              </a:tblGrid>
              <a:tr h="4147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ый долг ( тыс.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01.01.2026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01.01.2027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01.01.2028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4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93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  <p:sp>
        <p:nvSpPr>
          <p:cNvPr id="460" name=""/>
          <p:cNvSpPr/>
          <p:nvPr/>
        </p:nvSpPr>
        <p:spPr>
          <a:xfrm>
            <a:off x="684360" y="2351160"/>
            <a:ext cx="8064360" cy="1160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Уровень долговой нагрузки, %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0,00                       0,00                      0,00                     0,00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на 01.01.2025        на 01.01.2026       на 01.01.2027       на 01.01.2028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1" name=""/>
          <p:cNvSpPr/>
          <p:nvPr/>
        </p:nvSpPr>
        <p:spPr>
          <a:xfrm>
            <a:off x="4392720" y="3789360"/>
            <a:ext cx="914400" cy="914400"/>
          </a:xfrm>
          <a:custGeom>
            <a:avLst/>
            <a:gdLst/>
            <a:ahLst/>
            <a:rect l="l" t="t" r="r" b="b"/>
            <a:pathLst>
              <a:path w="914400" h="457200">
                <a:moveTo>
                  <a:pt x="457200" y="0"/>
                </a:moveTo>
                <a:cubicBezTo>
                  <a:pt x="709705" y="0"/>
                  <a:pt x="914400" y="204695"/>
                  <a:pt x="914400" y="457200"/>
                </a:cubicBezTo>
                <a:lnTo>
                  <a:pt x="457200" y="457200"/>
                </a:lnTo>
                <a:lnTo>
                  <a:pt x="457200" y="0"/>
                </a:lnTo>
                <a:close/>
                <a:moveTo>
                  <a:pt x="457200" y="0"/>
                </a:moveTo>
                <a:cubicBezTo>
                  <a:pt x="709705" y="0"/>
                  <a:pt x="914400" y="204695"/>
                  <a:pt x="914400" y="457200"/>
                </a:cubicBezTo>
              </a:path>
            </a:pathLst>
          </a:custGeom>
          <a:noFill/>
          <a:ln w="9360">
            <a:solidFill>
              <a:srgbClr val="93c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639720" y="4479840"/>
            <a:ext cx="8691480" cy="1785960"/>
            <a:chOff x="639720" y="4479840"/>
            <a:chExt cx="8691480" cy="1785960"/>
          </a:xfrm>
        </p:grpSpPr>
        <p:pic>
          <p:nvPicPr>
            <p:cNvPr id="463" name="" descr=""/>
            <p:cNvPicPr/>
            <p:nvPr/>
          </p:nvPicPr>
          <p:blipFill>
            <a:blip r:embed="rId4"/>
            <a:stretch/>
          </p:blipFill>
          <p:spPr>
            <a:xfrm>
              <a:off x="639720" y="4479840"/>
              <a:ext cx="869148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84360" y="4569480"/>
              <a:ext cx="8278560" cy="119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DejaVu Sans"/>
                </a:rPr>
                <a:t>Муниципальных внутренних заимствований  Байкаловское сельское поселение в 2025 году и плановом периоде 2026 и 2027 годов не планирует.</a:t>
              </a:r>
              <a:endParaRPr b="0" lang="en-US" sz="2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</p:spTree>
  </p:cSld>
  <p:transition spd="slow">
    <p:circl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34800" y="1170000"/>
            <a:ext cx="8596440" cy="532764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5211720" y="176040"/>
            <a:ext cx="3262320" cy="273852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4"/>
          <a:stretch/>
        </p:blipFill>
        <p:spPr>
          <a:xfrm>
            <a:off x="274680" y="2670120"/>
            <a:ext cx="3114720" cy="241956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5"/>
          <a:stretch/>
        </p:blipFill>
        <p:spPr>
          <a:xfrm>
            <a:off x="336600" y="325440"/>
            <a:ext cx="416232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7280" y="115920"/>
            <a:ext cx="8713800" cy="67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457200" algn="just">
              <a:lnSpc>
                <a:spcPct val="9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утем выполнения мероприятий, направленных на оптимизацию расходов, соблюдение условий использования целевых средств, полученных из других бюджетов бюджетной системы Российской Федерации;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457200" algn="just">
              <a:lnSpc>
                <a:spcPct val="9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) обеспечение долгосрочной устойчивости и сбалансированности местных бюджетов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457200" algn="just">
              <a:lnSpc>
                <a:spcPct val="9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6) повышение эффективности оказания муниципальных услуг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457200" algn="just">
              <a:lnSpc>
                <a:spcPct val="9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7) осуществление казначейского контроля закупок с помощью автоматизации контрольных процедур (начиная с планирования и до включения в реестр контрактов данных о соответствующем контракте)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457200" algn="just">
              <a:lnSpc>
                <a:spcPct val="9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)обеспечение соблюдения принципов законности, целесообразности и эффективности бюджетных расходов через механизм муниципального финансового контроля в соответствии с федеральными государственными стандартами осуществления финансового контроля;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457200" algn="just">
              <a:lnSpc>
                <a:spcPct val="9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9) развитие и совершенствование методологии разработки и реализации муниципальных программ, повышения качества их планирования и эффективности реализации исходя из ожидаемых результатов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457200" algn="just">
              <a:lnSpc>
                <a:spcPct val="9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0) обеспечение открытости бюджетного процесса и вовлечение в него граждан, проживающих на территории Байкаловского сельского поселения.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457200" algn="just">
              <a:lnSpc>
                <a:spcPct val="9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) совершенствование бюджетного планирования с использованием муниципальных программ и бюджетного прогноза Байкаловского сельского поселения на долгосрочный период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457200" algn="just">
              <a:lnSpc>
                <a:spcPct val="9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2) повышение качества финансового менеджмента главных распорядителей бюджетных средств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457200" algn="just">
              <a:lnSpc>
                <a:spcPct val="9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3) в целях сохранения стабильного функционирования социальной сферы недопустимо образование просроченной кредиторской задолженности по принятым обязательствам.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457200" algn="just">
              <a:lnSpc>
                <a:spcPct val="9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юджетная политика Байкаловского сельского поселения направлена: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457200" algn="just">
              <a:lnSpc>
                <a:spcPct val="9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в сфере физической культуры и спорта - на создание условий для занятий физической культурой и спортом, а также массовым спортом для всех категорий и групп населения, обеспечение широкого доступа к объектам физкультуры и спорта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457200" algn="just">
              <a:lnSpc>
                <a:spcPct val="9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в сфере культуры - на повышение качества предоставляемых услуг, в том числе за счет проведения текущих и капитальных ремонтов учреждений культуры, а также приобретения оборудования, обеспечение доступности оказания услуг учреждениями культуры за счет внедрения цифровых технологий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marL="228600" indent="457200" algn="just">
              <a:lnSpc>
                <a:spcPct val="9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в сфере национальной экономики - на обеспечение условий для устойчивого экономического роста, формирование современной транспортной инфраструктуры, в том числе за счет проведения текущих и капитальных ремонтов дорог местного значения, поддержания их в надлежащем состоянии, поддержку малого и среднего бизнеса через развитие информационной среды для предпринимателей; 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7280" y="225360"/>
            <a:ext cx="87138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457200" algn="just">
              <a:lnSpc>
                <a:spcPct val="90000"/>
              </a:lnSpc>
              <a:spcBef>
                <a:spcPts val="34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) в сфере жилищно-коммунального хозяйства - на создание благоприятных, безопасных и комфортных  условий проживания граждан,  обеспечения условий для повышения доступности жилья для населения  с различным уровнем дохода,  увеличения доли качественного жилищного фонда, обеспеченного централизованными коммунальными ресурсами за счет развития и модернизации систем коммунальной инженерной инфраструктуры, повышения их энергетической эффективности, повышения доступности и качества жилищно-коммунальных услуг, в том числе повышения качества питьевой воды, реализацию инвестиционных проектов, направленных на расширение газовых сетей в населенных пунктах, ликвидацию аварийного и ветхого жилья.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47640" y="2205000"/>
            <a:ext cx="806472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73120" y="762120"/>
            <a:ext cx="8272440" cy="3809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4000" y="765000"/>
            <a:ext cx="8351640" cy="106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7ff92"/>
              </a:gs>
              <a:gs pos="100000">
                <a:srgbClr val="f4ffe1"/>
              </a:gs>
            </a:gsLst>
            <a:lin ang="16200000"/>
          </a:gradFill>
          <a:ln w="9360">
            <a:solidFill>
              <a:srgbClr val="93c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3b2c24"/>
                </a:solidFill>
                <a:latin typeface="Times New Roman"/>
                <a:ea typeface="DejaVu Sans"/>
              </a:rPr>
              <a:t>ЧТО ТАКОЕ «БЮДЖЕТ ДЛЯ ГРАЖДАН»</a:t>
            </a:r>
            <a:r>
              <a:rPr b="1" lang="en-US" sz="3200" spc="-1" strike="noStrike">
                <a:solidFill>
                  <a:srgbClr val="3b2c24"/>
                </a:solidFill>
                <a:latin typeface="Book Antiqua"/>
                <a:ea typeface="DejaVu San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819000" y="3860640"/>
            <a:ext cx="3681720" cy="2592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472000" y="3860640"/>
            <a:ext cx="2921040" cy="25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04920" y="249120"/>
            <a:ext cx="8589960" cy="646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640" y="800280"/>
            <a:ext cx="9126360" cy="6057720"/>
          </a:xfrm>
          <a:prstGeom prst="rect">
            <a:avLst/>
          </a:prstGeom>
          <a:solidFill>
            <a:srgbClr val="eff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</a:rPr>
              <a:t>Бюджет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</a:rPr>
              <a:t>- это план доходов и расходов на определенный период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3" name=""/>
          <p:cNvSpPr/>
          <p:nvPr/>
        </p:nvSpPr>
        <p:spPr>
          <a:xfrm>
            <a:off x="2448000" y="1265400"/>
            <a:ext cx="4248000" cy="620640"/>
          </a:xfrm>
          <a:custGeom>
            <a:avLst/>
            <a:gdLst/>
            <a:ahLst/>
            <a:rect l="l" t="t" r="r" b="b"/>
            <a:pathLst>
              <a:path w="11801" h="1725">
                <a:moveTo>
                  <a:pt x="287" y="0"/>
                </a:moveTo>
                <a:lnTo>
                  <a:pt x="288" y="0"/>
                </a:lnTo>
                <a:cubicBezTo>
                  <a:pt x="237" y="0"/>
                  <a:pt x="187" y="13"/>
                  <a:pt x="144" y="39"/>
                </a:cubicBezTo>
                <a:cubicBezTo>
                  <a:pt x="100" y="64"/>
                  <a:pt x="64" y="100"/>
                  <a:pt x="39" y="144"/>
                </a:cubicBezTo>
                <a:cubicBezTo>
                  <a:pt x="13" y="187"/>
                  <a:pt x="0" y="237"/>
                  <a:pt x="0" y="288"/>
                </a:cubicBezTo>
                <a:lnTo>
                  <a:pt x="0" y="1437"/>
                </a:lnTo>
                <a:lnTo>
                  <a:pt x="0" y="1438"/>
                </a:lnTo>
                <a:cubicBezTo>
                  <a:pt x="0" y="1488"/>
                  <a:pt x="13" y="1538"/>
                  <a:pt x="39" y="1581"/>
                </a:cubicBezTo>
                <a:cubicBezTo>
                  <a:pt x="64" y="1625"/>
                  <a:pt x="100" y="1661"/>
                  <a:pt x="144" y="1686"/>
                </a:cubicBezTo>
                <a:cubicBezTo>
                  <a:pt x="187" y="1712"/>
                  <a:pt x="237" y="1725"/>
                  <a:pt x="288" y="1725"/>
                </a:cubicBezTo>
                <a:lnTo>
                  <a:pt x="11513" y="1724"/>
                </a:lnTo>
                <a:lnTo>
                  <a:pt x="11514" y="1725"/>
                </a:lnTo>
                <a:cubicBezTo>
                  <a:pt x="11564" y="1725"/>
                  <a:pt x="11614" y="1712"/>
                  <a:pt x="11657" y="1686"/>
                </a:cubicBezTo>
                <a:cubicBezTo>
                  <a:pt x="11701" y="1661"/>
                  <a:pt x="11737" y="1625"/>
                  <a:pt x="11762" y="1581"/>
                </a:cubicBezTo>
                <a:cubicBezTo>
                  <a:pt x="11788" y="1538"/>
                  <a:pt x="11801" y="1488"/>
                  <a:pt x="11801" y="1438"/>
                </a:cubicBezTo>
                <a:lnTo>
                  <a:pt x="11800" y="287"/>
                </a:lnTo>
                <a:lnTo>
                  <a:pt x="11801" y="288"/>
                </a:lnTo>
                <a:lnTo>
                  <a:pt x="11801" y="288"/>
                </a:lnTo>
                <a:cubicBezTo>
                  <a:pt x="11801" y="237"/>
                  <a:pt x="11788" y="187"/>
                  <a:pt x="11762" y="144"/>
                </a:cubicBezTo>
                <a:cubicBezTo>
                  <a:pt x="11737" y="100"/>
                  <a:pt x="11701" y="64"/>
                  <a:pt x="11657" y="39"/>
                </a:cubicBezTo>
                <a:cubicBezTo>
                  <a:pt x="11614" y="13"/>
                  <a:pt x="11564" y="0"/>
                  <a:pt x="11514" y="0"/>
                </a:cubicBezTo>
                <a:lnTo>
                  <a:pt x="287" y="0"/>
                </a:lnTo>
              </a:path>
            </a:pathLst>
          </a:custGeom>
          <a:solidFill>
            <a:srgbClr val="00b0f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Какие бывают бюджеты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DejaVu San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1376280"/>
            <a:ext cx="1152720" cy="1271520"/>
          </a:xfrm>
          <a:custGeom>
            <a:avLst/>
            <a:gdLst/>
            <a:ahLst/>
            <a:rect l="l" t="t" r="r" b="b"/>
            <a:pathLst>
              <a:path w="3203" h="3495">
                <a:moveTo>
                  <a:pt x="3203" y="0"/>
                </a:moveTo>
                <a:lnTo>
                  <a:pt x="3035" y="2"/>
                </a:lnTo>
                <a:lnTo>
                  <a:pt x="2868" y="6"/>
                </a:lnTo>
                <a:lnTo>
                  <a:pt x="2702" y="14"/>
                </a:lnTo>
                <a:lnTo>
                  <a:pt x="2537" y="25"/>
                </a:lnTo>
                <a:lnTo>
                  <a:pt x="2374" y="40"/>
                </a:lnTo>
                <a:lnTo>
                  <a:pt x="2213" y="57"/>
                </a:lnTo>
                <a:lnTo>
                  <a:pt x="2055" y="77"/>
                </a:lnTo>
                <a:lnTo>
                  <a:pt x="1900" y="101"/>
                </a:lnTo>
                <a:lnTo>
                  <a:pt x="1749" y="127"/>
                </a:lnTo>
                <a:lnTo>
                  <a:pt x="1602" y="156"/>
                </a:lnTo>
                <a:lnTo>
                  <a:pt x="1459" y="188"/>
                </a:lnTo>
                <a:lnTo>
                  <a:pt x="1320" y="223"/>
                </a:lnTo>
                <a:lnTo>
                  <a:pt x="1187" y="260"/>
                </a:lnTo>
                <a:lnTo>
                  <a:pt x="1060" y="299"/>
                </a:lnTo>
                <a:lnTo>
                  <a:pt x="938" y="342"/>
                </a:lnTo>
                <a:lnTo>
                  <a:pt x="823" y="386"/>
                </a:lnTo>
                <a:lnTo>
                  <a:pt x="714" y="432"/>
                </a:lnTo>
                <a:lnTo>
                  <a:pt x="612" y="481"/>
                </a:lnTo>
                <a:lnTo>
                  <a:pt x="517" y="531"/>
                </a:lnTo>
                <a:lnTo>
                  <a:pt x="429" y="583"/>
                </a:lnTo>
                <a:lnTo>
                  <a:pt x="349" y="637"/>
                </a:lnTo>
                <a:lnTo>
                  <a:pt x="277" y="692"/>
                </a:lnTo>
                <a:lnTo>
                  <a:pt x="213" y="748"/>
                </a:lnTo>
                <a:lnTo>
                  <a:pt x="157" y="806"/>
                </a:lnTo>
                <a:lnTo>
                  <a:pt x="109" y="864"/>
                </a:lnTo>
                <a:lnTo>
                  <a:pt x="70" y="924"/>
                </a:lnTo>
                <a:lnTo>
                  <a:pt x="39" y="984"/>
                </a:lnTo>
                <a:lnTo>
                  <a:pt x="18" y="1044"/>
                </a:lnTo>
                <a:lnTo>
                  <a:pt x="4" y="1105"/>
                </a:lnTo>
                <a:lnTo>
                  <a:pt x="0" y="1166"/>
                </a:lnTo>
                <a:lnTo>
                  <a:pt x="0" y="1966"/>
                </a:lnTo>
                <a:lnTo>
                  <a:pt x="4" y="2027"/>
                </a:lnTo>
                <a:lnTo>
                  <a:pt x="18" y="2089"/>
                </a:lnTo>
                <a:lnTo>
                  <a:pt x="40" y="2150"/>
                </a:lnTo>
                <a:lnTo>
                  <a:pt x="71" y="2210"/>
                </a:lnTo>
                <a:lnTo>
                  <a:pt x="111" y="2270"/>
                </a:lnTo>
                <a:lnTo>
                  <a:pt x="159" y="2329"/>
                </a:lnTo>
                <a:lnTo>
                  <a:pt x="216" y="2387"/>
                </a:lnTo>
                <a:lnTo>
                  <a:pt x="281" y="2443"/>
                </a:lnTo>
                <a:lnTo>
                  <a:pt x="354" y="2499"/>
                </a:lnTo>
                <a:lnTo>
                  <a:pt x="435" y="2553"/>
                </a:lnTo>
                <a:lnTo>
                  <a:pt x="524" y="2605"/>
                </a:lnTo>
                <a:lnTo>
                  <a:pt x="620" y="2655"/>
                </a:lnTo>
                <a:lnTo>
                  <a:pt x="723" y="2704"/>
                </a:lnTo>
                <a:lnTo>
                  <a:pt x="834" y="2751"/>
                </a:lnTo>
                <a:lnTo>
                  <a:pt x="950" y="2795"/>
                </a:lnTo>
                <a:lnTo>
                  <a:pt x="1074" y="2837"/>
                </a:lnTo>
                <a:lnTo>
                  <a:pt x="1203" y="2877"/>
                </a:lnTo>
                <a:lnTo>
                  <a:pt x="1337" y="2914"/>
                </a:lnTo>
                <a:lnTo>
                  <a:pt x="1477" y="2948"/>
                </a:lnTo>
                <a:lnTo>
                  <a:pt x="1622" y="2980"/>
                </a:lnTo>
                <a:lnTo>
                  <a:pt x="1771" y="3009"/>
                </a:lnTo>
                <a:lnTo>
                  <a:pt x="1924" y="3035"/>
                </a:lnTo>
                <a:lnTo>
                  <a:pt x="2080" y="3058"/>
                </a:lnTo>
                <a:lnTo>
                  <a:pt x="2240" y="3078"/>
                </a:lnTo>
                <a:lnTo>
                  <a:pt x="2402" y="3095"/>
                </a:lnTo>
                <a:lnTo>
                  <a:pt x="2402" y="3495"/>
                </a:lnTo>
                <a:lnTo>
                  <a:pt x="3203" y="2732"/>
                </a:lnTo>
                <a:lnTo>
                  <a:pt x="2402" y="1894"/>
                </a:lnTo>
                <a:lnTo>
                  <a:pt x="2402" y="2295"/>
                </a:lnTo>
                <a:lnTo>
                  <a:pt x="2237" y="2278"/>
                </a:lnTo>
                <a:lnTo>
                  <a:pt x="2074" y="2257"/>
                </a:lnTo>
                <a:lnTo>
                  <a:pt x="1914" y="2233"/>
                </a:lnTo>
                <a:lnTo>
                  <a:pt x="1759" y="2207"/>
                </a:lnTo>
                <a:lnTo>
                  <a:pt x="1607" y="2177"/>
                </a:lnTo>
                <a:lnTo>
                  <a:pt x="1460" y="2144"/>
                </a:lnTo>
                <a:lnTo>
                  <a:pt x="1318" y="2109"/>
                </a:lnTo>
                <a:lnTo>
                  <a:pt x="1182" y="2070"/>
                </a:lnTo>
                <a:lnTo>
                  <a:pt x="1051" y="2030"/>
                </a:lnTo>
                <a:lnTo>
                  <a:pt x="927" y="1986"/>
                </a:lnTo>
                <a:lnTo>
                  <a:pt x="809" y="1941"/>
                </a:lnTo>
                <a:lnTo>
                  <a:pt x="698" y="1893"/>
                </a:lnTo>
                <a:lnTo>
                  <a:pt x="594" y="1843"/>
                </a:lnTo>
                <a:lnTo>
                  <a:pt x="498" y="1791"/>
                </a:lnTo>
                <a:lnTo>
                  <a:pt x="410" y="1737"/>
                </a:lnTo>
                <a:lnTo>
                  <a:pt x="330" y="1681"/>
                </a:lnTo>
                <a:lnTo>
                  <a:pt x="258" y="1624"/>
                </a:lnTo>
                <a:lnTo>
                  <a:pt x="194" y="1566"/>
                </a:lnTo>
                <a:lnTo>
                  <a:pt x="194" y="1566"/>
                </a:lnTo>
                <a:lnTo>
                  <a:pt x="257" y="1509"/>
                </a:lnTo>
                <a:lnTo>
                  <a:pt x="328" y="1452"/>
                </a:lnTo>
                <a:lnTo>
                  <a:pt x="407" y="1397"/>
                </a:lnTo>
                <a:lnTo>
                  <a:pt x="493" y="1344"/>
                </a:lnTo>
                <a:lnTo>
                  <a:pt x="588" y="1293"/>
                </a:lnTo>
                <a:lnTo>
                  <a:pt x="690" y="1243"/>
                </a:lnTo>
                <a:lnTo>
                  <a:pt x="798" y="1196"/>
                </a:lnTo>
                <a:lnTo>
                  <a:pt x="914" y="1150"/>
                </a:lnTo>
                <a:lnTo>
                  <a:pt x="1036" y="1107"/>
                </a:lnTo>
                <a:lnTo>
                  <a:pt x="1164" y="1067"/>
                </a:lnTo>
                <a:lnTo>
                  <a:pt x="1298" y="1029"/>
                </a:lnTo>
                <a:lnTo>
                  <a:pt x="1438" y="993"/>
                </a:lnTo>
                <a:lnTo>
                  <a:pt x="1582" y="960"/>
                </a:lnTo>
                <a:lnTo>
                  <a:pt x="1731" y="931"/>
                </a:lnTo>
                <a:lnTo>
                  <a:pt x="1884" y="904"/>
                </a:lnTo>
                <a:lnTo>
                  <a:pt x="2040" y="880"/>
                </a:lnTo>
                <a:lnTo>
                  <a:pt x="2200" y="859"/>
                </a:lnTo>
                <a:lnTo>
                  <a:pt x="2363" y="841"/>
                </a:lnTo>
                <a:lnTo>
                  <a:pt x="2528" y="826"/>
                </a:lnTo>
                <a:lnTo>
                  <a:pt x="2695" y="815"/>
                </a:lnTo>
                <a:lnTo>
                  <a:pt x="2864" y="807"/>
                </a:lnTo>
                <a:lnTo>
                  <a:pt x="3033" y="802"/>
                </a:lnTo>
                <a:lnTo>
                  <a:pt x="3203" y="800"/>
                </a:lnTo>
                <a:lnTo>
                  <a:pt x="3203" y="0"/>
                </a:lnTo>
                <a:moveTo>
                  <a:pt x="3203" y="0"/>
                </a:moveTo>
                <a:lnTo>
                  <a:pt x="3035" y="2"/>
                </a:lnTo>
                <a:lnTo>
                  <a:pt x="2868" y="6"/>
                </a:lnTo>
                <a:lnTo>
                  <a:pt x="2702" y="14"/>
                </a:lnTo>
                <a:lnTo>
                  <a:pt x="2537" y="25"/>
                </a:lnTo>
                <a:lnTo>
                  <a:pt x="2374" y="40"/>
                </a:lnTo>
                <a:lnTo>
                  <a:pt x="2213" y="57"/>
                </a:lnTo>
                <a:lnTo>
                  <a:pt x="2055" y="77"/>
                </a:lnTo>
                <a:lnTo>
                  <a:pt x="1900" y="101"/>
                </a:lnTo>
                <a:lnTo>
                  <a:pt x="1749" y="127"/>
                </a:lnTo>
                <a:lnTo>
                  <a:pt x="1602" y="156"/>
                </a:lnTo>
                <a:lnTo>
                  <a:pt x="1459" y="188"/>
                </a:lnTo>
                <a:lnTo>
                  <a:pt x="1320" y="223"/>
                </a:lnTo>
                <a:lnTo>
                  <a:pt x="1187" y="260"/>
                </a:lnTo>
                <a:lnTo>
                  <a:pt x="1060" y="299"/>
                </a:lnTo>
                <a:lnTo>
                  <a:pt x="938" y="342"/>
                </a:lnTo>
                <a:lnTo>
                  <a:pt x="823" y="386"/>
                </a:lnTo>
                <a:lnTo>
                  <a:pt x="714" y="432"/>
                </a:lnTo>
                <a:lnTo>
                  <a:pt x="612" y="481"/>
                </a:lnTo>
                <a:lnTo>
                  <a:pt x="517" y="531"/>
                </a:lnTo>
                <a:lnTo>
                  <a:pt x="429" y="583"/>
                </a:lnTo>
                <a:lnTo>
                  <a:pt x="349" y="637"/>
                </a:lnTo>
                <a:lnTo>
                  <a:pt x="277" y="692"/>
                </a:lnTo>
                <a:lnTo>
                  <a:pt x="213" y="748"/>
                </a:lnTo>
                <a:lnTo>
                  <a:pt x="157" y="806"/>
                </a:lnTo>
                <a:lnTo>
                  <a:pt x="109" y="864"/>
                </a:lnTo>
                <a:lnTo>
                  <a:pt x="70" y="924"/>
                </a:lnTo>
                <a:lnTo>
                  <a:pt x="39" y="984"/>
                </a:lnTo>
                <a:lnTo>
                  <a:pt x="18" y="1044"/>
                </a:lnTo>
                <a:lnTo>
                  <a:pt x="4" y="1105"/>
                </a:lnTo>
                <a:lnTo>
                  <a:pt x="0" y="1166"/>
                </a:lnTo>
                <a:lnTo>
                  <a:pt x="0" y="1166"/>
                </a:lnTo>
                <a:lnTo>
                  <a:pt x="1" y="1193"/>
                </a:lnTo>
                <a:lnTo>
                  <a:pt x="3" y="1220"/>
                </a:lnTo>
                <a:lnTo>
                  <a:pt x="8" y="1248"/>
                </a:lnTo>
                <a:lnTo>
                  <a:pt x="14" y="1275"/>
                </a:lnTo>
                <a:lnTo>
                  <a:pt x="22" y="1302"/>
                </a:lnTo>
                <a:lnTo>
                  <a:pt x="31" y="1329"/>
                </a:lnTo>
                <a:lnTo>
                  <a:pt x="43" y="1356"/>
                </a:lnTo>
                <a:lnTo>
                  <a:pt x="56" y="1382"/>
                </a:lnTo>
                <a:lnTo>
                  <a:pt x="70" y="1409"/>
                </a:lnTo>
                <a:lnTo>
                  <a:pt x="87" y="1436"/>
                </a:lnTo>
                <a:lnTo>
                  <a:pt x="105" y="1462"/>
                </a:lnTo>
                <a:lnTo>
                  <a:pt x="125" y="1488"/>
                </a:lnTo>
                <a:lnTo>
                  <a:pt x="146" y="1514"/>
                </a:lnTo>
                <a:lnTo>
                  <a:pt x="170" y="1540"/>
                </a:lnTo>
                <a:lnTo>
                  <a:pt x="194" y="1566"/>
                </a:lnTo>
                <a:lnTo>
                  <a:pt x="194" y="1566"/>
                </a:lnTo>
                <a:lnTo>
                  <a:pt x="257" y="1509"/>
                </a:lnTo>
                <a:lnTo>
                  <a:pt x="328" y="1452"/>
                </a:lnTo>
                <a:lnTo>
                  <a:pt x="407" y="1397"/>
                </a:lnTo>
                <a:lnTo>
                  <a:pt x="493" y="1344"/>
                </a:lnTo>
                <a:lnTo>
                  <a:pt x="588" y="1293"/>
                </a:lnTo>
                <a:lnTo>
                  <a:pt x="690" y="1243"/>
                </a:lnTo>
                <a:lnTo>
                  <a:pt x="798" y="1196"/>
                </a:lnTo>
                <a:lnTo>
                  <a:pt x="914" y="1150"/>
                </a:lnTo>
                <a:lnTo>
                  <a:pt x="1036" y="1107"/>
                </a:lnTo>
                <a:lnTo>
                  <a:pt x="1164" y="1067"/>
                </a:lnTo>
                <a:lnTo>
                  <a:pt x="1298" y="1029"/>
                </a:lnTo>
                <a:lnTo>
                  <a:pt x="1438" y="993"/>
                </a:lnTo>
                <a:lnTo>
                  <a:pt x="1582" y="960"/>
                </a:lnTo>
                <a:lnTo>
                  <a:pt x="1731" y="931"/>
                </a:lnTo>
                <a:lnTo>
                  <a:pt x="1884" y="904"/>
                </a:lnTo>
                <a:lnTo>
                  <a:pt x="2040" y="880"/>
                </a:lnTo>
                <a:lnTo>
                  <a:pt x="2200" y="859"/>
                </a:lnTo>
                <a:lnTo>
                  <a:pt x="2363" y="841"/>
                </a:lnTo>
                <a:lnTo>
                  <a:pt x="2528" y="826"/>
                </a:lnTo>
                <a:lnTo>
                  <a:pt x="2695" y="815"/>
                </a:lnTo>
                <a:lnTo>
                  <a:pt x="2864" y="807"/>
                </a:lnTo>
                <a:lnTo>
                  <a:pt x="3033" y="802"/>
                </a:lnTo>
                <a:lnTo>
                  <a:pt x="3203" y="800"/>
                </a:lnTo>
                <a:lnTo>
                  <a:pt x="3203" y="0"/>
                </a:lnTo>
              </a:path>
            </a:pathLst>
          </a:custGeom>
          <a:solidFill>
            <a:srgbClr val="00b0f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5" name=""/>
          <p:cNvSpPr/>
          <p:nvPr/>
        </p:nvSpPr>
        <p:spPr>
          <a:xfrm>
            <a:off x="6804000" y="1376280"/>
            <a:ext cx="1008000" cy="1271520"/>
          </a:xfrm>
          <a:custGeom>
            <a:avLst/>
            <a:gdLst/>
            <a:ahLst/>
            <a:rect l="l" t="t" r="r" b="b"/>
            <a:pathLst>
              <a:path w="2801" h="3493">
                <a:moveTo>
                  <a:pt x="0" y="0"/>
                </a:moveTo>
                <a:lnTo>
                  <a:pt x="147" y="2"/>
                </a:lnTo>
                <a:lnTo>
                  <a:pt x="293" y="7"/>
                </a:lnTo>
                <a:lnTo>
                  <a:pt x="438" y="15"/>
                </a:lnTo>
                <a:lnTo>
                  <a:pt x="582" y="27"/>
                </a:lnTo>
                <a:lnTo>
                  <a:pt x="725" y="42"/>
                </a:lnTo>
                <a:lnTo>
                  <a:pt x="866" y="61"/>
                </a:lnTo>
                <a:lnTo>
                  <a:pt x="1004" y="82"/>
                </a:lnTo>
                <a:lnTo>
                  <a:pt x="1139" y="107"/>
                </a:lnTo>
                <a:lnTo>
                  <a:pt x="1272" y="135"/>
                </a:lnTo>
                <a:lnTo>
                  <a:pt x="1401" y="166"/>
                </a:lnTo>
                <a:lnTo>
                  <a:pt x="1526" y="200"/>
                </a:lnTo>
                <a:lnTo>
                  <a:pt x="1646" y="237"/>
                </a:lnTo>
                <a:lnTo>
                  <a:pt x="1763" y="277"/>
                </a:lnTo>
                <a:lnTo>
                  <a:pt x="1874" y="319"/>
                </a:lnTo>
                <a:lnTo>
                  <a:pt x="1981" y="363"/>
                </a:lnTo>
                <a:lnTo>
                  <a:pt x="2082" y="411"/>
                </a:lnTo>
                <a:lnTo>
                  <a:pt x="2177" y="460"/>
                </a:lnTo>
                <a:lnTo>
                  <a:pt x="2266" y="512"/>
                </a:lnTo>
                <a:lnTo>
                  <a:pt x="2349" y="565"/>
                </a:lnTo>
                <a:lnTo>
                  <a:pt x="2426" y="621"/>
                </a:lnTo>
                <a:lnTo>
                  <a:pt x="2496" y="678"/>
                </a:lnTo>
                <a:lnTo>
                  <a:pt x="2559" y="736"/>
                </a:lnTo>
                <a:lnTo>
                  <a:pt x="2615" y="796"/>
                </a:lnTo>
                <a:lnTo>
                  <a:pt x="2664" y="858"/>
                </a:lnTo>
                <a:lnTo>
                  <a:pt x="2706" y="920"/>
                </a:lnTo>
                <a:lnTo>
                  <a:pt x="2740" y="983"/>
                </a:lnTo>
                <a:lnTo>
                  <a:pt x="2767" y="1047"/>
                </a:lnTo>
                <a:lnTo>
                  <a:pt x="2786" y="1111"/>
                </a:lnTo>
                <a:lnTo>
                  <a:pt x="2797" y="1176"/>
                </a:lnTo>
                <a:lnTo>
                  <a:pt x="2801" y="1241"/>
                </a:lnTo>
                <a:lnTo>
                  <a:pt x="2801" y="1941"/>
                </a:lnTo>
                <a:lnTo>
                  <a:pt x="2797" y="2006"/>
                </a:lnTo>
                <a:lnTo>
                  <a:pt x="2785" y="2072"/>
                </a:lnTo>
                <a:lnTo>
                  <a:pt x="2766" y="2137"/>
                </a:lnTo>
                <a:lnTo>
                  <a:pt x="2739" y="2201"/>
                </a:lnTo>
                <a:lnTo>
                  <a:pt x="2704" y="2264"/>
                </a:lnTo>
                <a:lnTo>
                  <a:pt x="2662" y="2327"/>
                </a:lnTo>
                <a:lnTo>
                  <a:pt x="2612" y="2389"/>
                </a:lnTo>
                <a:lnTo>
                  <a:pt x="2555" y="2449"/>
                </a:lnTo>
                <a:lnTo>
                  <a:pt x="2491" y="2508"/>
                </a:lnTo>
                <a:lnTo>
                  <a:pt x="2421" y="2565"/>
                </a:lnTo>
                <a:lnTo>
                  <a:pt x="2343" y="2621"/>
                </a:lnTo>
                <a:lnTo>
                  <a:pt x="2259" y="2675"/>
                </a:lnTo>
                <a:lnTo>
                  <a:pt x="2168" y="2727"/>
                </a:lnTo>
                <a:lnTo>
                  <a:pt x="2072" y="2776"/>
                </a:lnTo>
                <a:lnTo>
                  <a:pt x="1970" y="2823"/>
                </a:lnTo>
                <a:lnTo>
                  <a:pt x="1862" y="2868"/>
                </a:lnTo>
                <a:lnTo>
                  <a:pt x="1749" y="2910"/>
                </a:lnTo>
                <a:lnTo>
                  <a:pt x="1631" y="2950"/>
                </a:lnTo>
                <a:lnTo>
                  <a:pt x="1509" y="2987"/>
                </a:lnTo>
                <a:lnTo>
                  <a:pt x="1382" y="3020"/>
                </a:lnTo>
                <a:lnTo>
                  <a:pt x="1252" y="3051"/>
                </a:lnTo>
                <a:lnTo>
                  <a:pt x="1118" y="3079"/>
                </a:lnTo>
                <a:lnTo>
                  <a:pt x="981" y="3103"/>
                </a:lnTo>
                <a:lnTo>
                  <a:pt x="842" y="3125"/>
                </a:lnTo>
                <a:lnTo>
                  <a:pt x="700" y="3143"/>
                </a:lnTo>
                <a:lnTo>
                  <a:pt x="700" y="3493"/>
                </a:lnTo>
                <a:lnTo>
                  <a:pt x="0" y="2832"/>
                </a:lnTo>
                <a:lnTo>
                  <a:pt x="700" y="2093"/>
                </a:lnTo>
                <a:lnTo>
                  <a:pt x="700" y="2443"/>
                </a:lnTo>
                <a:lnTo>
                  <a:pt x="839" y="2425"/>
                </a:lnTo>
                <a:lnTo>
                  <a:pt x="976" y="2404"/>
                </a:lnTo>
                <a:lnTo>
                  <a:pt x="1110" y="2380"/>
                </a:lnTo>
                <a:lnTo>
                  <a:pt x="1241" y="2354"/>
                </a:lnTo>
                <a:lnTo>
                  <a:pt x="1369" y="2324"/>
                </a:lnTo>
                <a:lnTo>
                  <a:pt x="1493" y="2291"/>
                </a:lnTo>
                <a:lnTo>
                  <a:pt x="1613" y="2255"/>
                </a:lnTo>
                <a:lnTo>
                  <a:pt x="1729" y="2217"/>
                </a:lnTo>
                <a:lnTo>
                  <a:pt x="1841" y="2176"/>
                </a:lnTo>
                <a:lnTo>
                  <a:pt x="1947" y="2133"/>
                </a:lnTo>
                <a:lnTo>
                  <a:pt x="2049" y="2087"/>
                </a:lnTo>
                <a:lnTo>
                  <a:pt x="2144" y="2039"/>
                </a:lnTo>
                <a:lnTo>
                  <a:pt x="2234" y="1989"/>
                </a:lnTo>
                <a:lnTo>
                  <a:pt x="2319" y="1937"/>
                </a:lnTo>
                <a:lnTo>
                  <a:pt x="2397" y="1883"/>
                </a:lnTo>
                <a:lnTo>
                  <a:pt x="2468" y="1828"/>
                </a:lnTo>
                <a:lnTo>
                  <a:pt x="2533" y="1770"/>
                </a:lnTo>
                <a:lnTo>
                  <a:pt x="2592" y="1712"/>
                </a:lnTo>
                <a:lnTo>
                  <a:pt x="2643" y="1652"/>
                </a:lnTo>
                <a:lnTo>
                  <a:pt x="2687" y="1591"/>
                </a:lnTo>
                <a:lnTo>
                  <a:pt x="2687" y="1591"/>
                </a:lnTo>
                <a:lnTo>
                  <a:pt x="2643" y="1530"/>
                </a:lnTo>
                <a:lnTo>
                  <a:pt x="2592" y="1471"/>
                </a:lnTo>
                <a:lnTo>
                  <a:pt x="2534" y="1412"/>
                </a:lnTo>
                <a:lnTo>
                  <a:pt x="2469" y="1355"/>
                </a:lnTo>
                <a:lnTo>
                  <a:pt x="2398" y="1300"/>
                </a:lnTo>
                <a:lnTo>
                  <a:pt x="2321" y="1246"/>
                </a:lnTo>
                <a:lnTo>
                  <a:pt x="2237" y="1194"/>
                </a:lnTo>
                <a:lnTo>
                  <a:pt x="2148" y="1144"/>
                </a:lnTo>
                <a:lnTo>
                  <a:pt x="2052" y="1096"/>
                </a:lnTo>
                <a:lnTo>
                  <a:pt x="1952" y="1051"/>
                </a:lnTo>
                <a:lnTo>
                  <a:pt x="1846" y="1008"/>
                </a:lnTo>
                <a:lnTo>
                  <a:pt x="1735" y="967"/>
                </a:lnTo>
                <a:lnTo>
                  <a:pt x="1620" y="929"/>
                </a:lnTo>
                <a:lnTo>
                  <a:pt x="1500" y="893"/>
                </a:lnTo>
                <a:lnTo>
                  <a:pt x="1377" y="860"/>
                </a:lnTo>
                <a:lnTo>
                  <a:pt x="1250" y="830"/>
                </a:lnTo>
                <a:lnTo>
                  <a:pt x="1119" y="803"/>
                </a:lnTo>
                <a:lnTo>
                  <a:pt x="986" y="779"/>
                </a:lnTo>
                <a:lnTo>
                  <a:pt x="850" y="759"/>
                </a:lnTo>
                <a:lnTo>
                  <a:pt x="712" y="741"/>
                </a:lnTo>
                <a:lnTo>
                  <a:pt x="572" y="726"/>
                </a:lnTo>
                <a:lnTo>
                  <a:pt x="430" y="715"/>
                </a:lnTo>
                <a:lnTo>
                  <a:pt x="287" y="707"/>
                </a:lnTo>
                <a:lnTo>
                  <a:pt x="144" y="702"/>
                </a:lnTo>
                <a:lnTo>
                  <a:pt x="0" y="700"/>
                </a:lnTo>
                <a:lnTo>
                  <a:pt x="0" y="0"/>
                </a:lnTo>
                <a:moveTo>
                  <a:pt x="0" y="0"/>
                </a:moveTo>
                <a:lnTo>
                  <a:pt x="147" y="2"/>
                </a:lnTo>
                <a:lnTo>
                  <a:pt x="293" y="7"/>
                </a:lnTo>
                <a:lnTo>
                  <a:pt x="438" y="15"/>
                </a:lnTo>
                <a:lnTo>
                  <a:pt x="582" y="27"/>
                </a:lnTo>
                <a:lnTo>
                  <a:pt x="725" y="42"/>
                </a:lnTo>
                <a:lnTo>
                  <a:pt x="866" y="61"/>
                </a:lnTo>
                <a:lnTo>
                  <a:pt x="1004" y="82"/>
                </a:lnTo>
                <a:lnTo>
                  <a:pt x="1139" y="107"/>
                </a:lnTo>
                <a:lnTo>
                  <a:pt x="1272" y="135"/>
                </a:lnTo>
                <a:lnTo>
                  <a:pt x="1401" y="166"/>
                </a:lnTo>
                <a:lnTo>
                  <a:pt x="1526" y="200"/>
                </a:lnTo>
                <a:lnTo>
                  <a:pt x="1646" y="237"/>
                </a:lnTo>
                <a:lnTo>
                  <a:pt x="1763" y="277"/>
                </a:lnTo>
                <a:lnTo>
                  <a:pt x="1874" y="319"/>
                </a:lnTo>
                <a:lnTo>
                  <a:pt x="1981" y="363"/>
                </a:lnTo>
                <a:lnTo>
                  <a:pt x="2082" y="411"/>
                </a:lnTo>
                <a:lnTo>
                  <a:pt x="2177" y="460"/>
                </a:lnTo>
                <a:lnTo>
                  <a:pt x="2266" y="512"/>
                </a:lnTo>
                <a:lnTo>
                  <a:pt x="2349" y="565"/>
                </a:lnTo>
                <a:lnTo>
                  <a:pt x="2426" y="621"/>
                </a:lnTo>
                <a:lnTo>
                  <a:pt x="2496" y="678"/>
                </a:lnTo>
                <a:lnTo>
                  <a:pt x="2559" y="736"/>
                </a:lnTo>
                <a:lnTo>
                  <a:pt x="2615" y="796"/>
                </a:lnTo>
                <a:lnTo>
                  <a:pt x="2664" y="858"/>
                </a:lnTo>
                <a:lnTo>
                  <a:pt x="2706" y="920"/>
                </a:lnTo>
                <a:lnTo>
                  <a:pt x="2740" y="983"/>
                </a:lnTo>
                <a:lnTo>
                  <a:pt x="2767" y="1047"/>
                </a:lnTo>
                <a:lnTo>
                  <a:pt x="2786" y="1111"/>
                </a:lnTo>
                <a:lnTo>
                  <a:pt x="2797" y="1176"/>
                </a:lnTo>
                <a:lnTo>
                  <a:pt x="2801" y="1241"/>
                </a:lnTo>
                <a:lnTo>
                  <a:pt x="2801" y="1941"/>
                </a:lnTo>
                <a:lnTo>
                  <a:pt x="2800" y="1917"/>
                </a:lnTo>
                <a:lnTo>
                  <a:pt x="2799" y="1894"/>
                </a:lnTo>
                <a:lnTo>
                  <a:pt x="2796" y="1870"/>
                </a:lnTo>
                <a:lnTo>
                  <a:pt x="2793" y="1846"/>
                </a:lnTo>
                <a:lnTo>
                  <a:pt x="2788" y="1823"/>
                </a:lnTo>
                <a:lnTo>
                  <a:pt x="2783" y="1799"/>
                </a:lnTo>
                <a:lnTo>
                  <a:pt x="2776" y="1776"/>
                </a:lnTo>
                <a:lnTo>
                  <a:pt x="2768" y="1752"/>
                </a:lnTo>
                <a:lnTo>
                  <a:pt x="2760" y="1729"/>
                </a:lnTo>
                <a:lnTo>
                  <a:pt x="2750" y="1706"/>
                </a:lnTo>
                <a:lnTo>
                  <a:pt x="2740" y="1683"/>
                </a:lnTo>
                <a:lnTo>
                  <a:pt x="2728" y="1660"/>
                </a:lnTo>
                <a:lnTo>
                  <a:pt x="2715" y="1637"/>
                </a:lnTo>
                <a:lnTo>
                  <a:pt x="2702" y="1614"/>
                </a:lnTo>
                <a:lnTo>
                  <a:pt x="2687" y="1591"/>
                </a:lnTo>
                <a:lnTo>
                  <a:pt x="2687" y="1591"/>
                </a:lnTo>
                <a:lnTo>
                  <a:pt x="2643" y="1530"/>
                </a:lnTo>
                <a:lnTo>
                  <a:pt x="2592" y="1471"/>
                </a:lnTo>
                <a:lnTo>
                  <a:pt x="2534" y="1412"/>
                </a:lnTo>
                <a:lnTo>
                  <a:pt x="2469" y="1355"/>
                </a:lnTo>
                <a:lnTo>
                  <a:pt x="2398" y="1300"/>
                </a:lnTo>
                <a:lnTo>
                  <a:pt x="2321" y="1246"/>
                </a:lnTo>
                <a:lnTo>
                  <a:pt x="2237" y="1194"/>
                </a:lnTo>
                <a:lnTo>
                  <a:pt x="2148" y="1144"/>
                </a:lnTo>
                <a:lnTo>
                  <a:pt x="2052" y="1096"/>
                </a:lnTo>
                <a:lnTo>
                  <a:pt x="1952" y="1051"/>
                </a:lnTo>
                <a:lnTo>
                  <a:pt x="1846" y="1008"/>
                </a:lnTo>
                <a:lnTo>
                  <a:pt x="1735" y="967"/>
                </a:lnTo>
                <a:lnTo>
                  <a:pt x="1620" y="929"/>
                </a:lnTo>
                <a:lnTo>
                  <a:pt x="1500" y="893"/>
                </a:lnTo>
                <a:lnTo>
                  <a:pt x="1377" y="860"/>
                </a:lnTo>
                <a:lnTo>
                  <a:pt x="1250" y="830"/>
                </a:lnTo>
                <a:lnTo>
                  <a:pt x="1119" y="803"/>
                </a:lnTo>
                <a:lnTo>
                  <a:pt x="986" y="779"/>
                </a:lnTo>
                <a:lnTo>
                  <a:pt x="850" y="759"/>
                </a:lnTo>
                <a:lnTo>
                  <a:pt x="712" y="741"/>
                </a:lnTo>
                <a:lnTo>
                  <a:pt x="572" y="726"/>
                </a:lnTo>
                <a:lnTo>
                  <a:pt x="430" y="715"/>
                </a:lnTo>
                <a:lnTo>
                  <a:pt x="287" y="707"/>
                </a:lnTo>
                <a:lnTo>
                  <a:pt x="144" y="702"/>
                </a:lnTo>
                <a:lnTo>
                  <a:pt x="0" y="700"/>
                </a:lnTo>
                <a:lnTo>
                  <a:pt x="0" y="0"/>
                </a:lnTo>
              </a:path>
            </a:pathLst>
          </a:custGeom>
          <a:solidFill>
            <a:srgbClr val="00b0f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6" name=""/>
          <p:cNvSpPr/>
          <p:nvPr/>
        </p:nvSpPr>
        <p:spPr>
          <a:xfrm>
            <a:off x="4132440" y="2133720"/>
            <a:ext cx="879120" cy="977760"/>
          </a:xfrm>
          <a:custGeom>
            <a:avLst/>
            <a:gdLst/>
            <a:ahLst/>
            <a:rect l="l" t="t" r="r" b="b"/>
            <a:pathLst>
              <a:path w="2443" h="2717">
                <a:moveTo>
                  <a:pt x="610" y="0"/>
                </a:moveTo>
                <a:lnTo>
                  <a:pt x="610" y="1495"/>
                </a:lnTo>
                <a:lnTo>
                  <a:pt x="0" y="1495"/>
                </a:lnTo>
                <a:lnTo>
                  <a:pt x="1221" y="2717"/>
                </a:lnTo>
                <a:lnTo>
                  <a:pt x="2443" y="1495"/>
                </a:lnTo>
                <a:lnTo>
                  <a:pt x="1832" y="1495"/>
                </a:lnTo>
                <a:lnTo>
                  <a:pt x="1832" y="0"/>
                </a:lnTo>
                <a:lnTo>
                  <a:pt x="610" y="0"/>
                </a:lnTo>
              </a:path>
            </a:pathLst>
          </a:custGeom>
          <a:solidFill>
            <a:srgbClr val="00b0f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2622600"/>
            <a:ext cx="2498760" cy="590400"/>
          </a:xfrm>
          <a:prstGeom prst="rect">
            <a:avLst/>
          </a:prstGeom>
          <a:solidFill>
            <a:srgbClr val="ffa466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Бюджеты семей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2647800"/>
            <a:ext cx="2448000" cy="565200"/>
          </a:xfrm>
          <a:prstGeom prst="rect">
            <a:avLst/>
          </a:prstGeom>
          <a:solidFill>
            <a:srgbClr val="d0ff44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Бюджеты организаций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3321000"/>
            <a:ext cx="2917800" cy="720720"/>
          </a:xfrm>
          <a:prstGeom prst="rect">
            <a:avLst/>
          </a:prstGeom>
          <a:solidFill>
            <a:srgbClr val="9966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Бюджеты публично-правовых образований: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4616280"/>
            <a:ext cx="1706760" cy="1887840"/>
          </a:xfrm>
          <a:custGeom>
            <a:avLst/>
            <a:gdLst/>
            <a:ahLst/>
            <a:rect l="l" t="t" r="r" b="b"/>
            <a:pathLst>
              <a:path w="4742" h="5245">
                <a:moveTo>
                  <a:pt x="790" y="0"/>
                </a:moveTo>
                <a:lnTo>
                  <a:pt x="790" y="0"/>
                </a:lnTo>
                <a:cubicBezTo>
                  <a:pt x="652" y="0"/>
                  <a:pt x="515" y="37"/>
                  <a:pt x="395" y="106"/>
                </a:cubicBezTo>
                <a:cubicBezTo>
                  <a:pt x="275" y="175"/>
                  <a:pt x="175" y="275"/>
                  <a:pt x="106" y="395"/>
                </a:cubicBezTo>
                <a:cubicBezTo>
                  <a:pt x="37" y="515"/>
                  <a:pt x="0" y="652"/>
                  <a:pt x="0" y="790"/>
                </a:cubicBezTo>
                <a:lnTo>
                  <a:pt x="0" y="4454"/>
                </a:lnTo>
                <a:lnTo>
                  <a:pt x="0" y="4455"/>
                </a:lnTo>
                <a:cubicBezTo>
                  <a:pt x="0" y="4593"/>
                  <a:pt x="37" y="4730"/>
                  <a:pt x="106" y="4850"/>
                </a:cubicBezTo>
                <a:cubicBezTo>
                  <a:pt x="175" y="4970"/>
                  <a:pt x="275" y="5070"/>
                  <a:pt x="395" y="5139"/>
                </a:cubicBezTo>
                <a:cubicBezTo>
                  <a:pt x="515" y="5208"/>
                  <a:pt x="652" y="5245"/>
                  <a:pt x="790" y="5245"/>
                </a:cubicBezTo>
                <a:lnTo>
                  <a:pt x="3951" y="5245"/>
                </a:lnTo>
                <a:lnTo>
                  <a:pt x="3952" y="5245"/>
                </a:lnTo>
                <a:cubicBezTo>
                  <a:pt x="4090" y="5245"/>
                  <a:pt x="4227" y="5208"/>
                  <a:pt x="4347" y="5139"/>
                </a:cubicBezTo>
                <a:cubicBezTo>
                  <a:pt x="4467" y="5070"/>
                  <a:pt x="4567" y="4970"/>
                  <a:pt x="4636" y="4850"/>
                </a:cubicBezTo>
                <a:cubicBezTo>
                  <a:pt x="4705" y="4730"/>
                  <a:pt x="4742" y="4593"/>
                  <a:pt x="4742" y="4455"/>
                </a:cubicBezTo>
                <a:lnTo>
                  <a:pt x="4742" y="790"/>
                </a:lnTo>
                <a:lnTo>
                  <a:pt x="4742" y="790"/>
                </a:lnTo>
                <a:lnTo>
                  <a:pt x="4742" y="790"/>
                </a:lnTo>
                <a:cubicBezTo>
                  <a:pt x="4742" y="652"/>
                  <a:pt x="4705" y="515"/>
                  <a:pt x="4636" y="395"/>
                </a:cubicBezTo>
                <a:cubicBezTo>
                  <a:pt x="4567" y="275"/>
                  <a:pt x="4467" y="175"/>
                  <a:pt x="4347" y="106"/>
                </a:cubicBezTo>
                <a:cubicBezTo>
                  <a:pt x="4227" y="37"/>
                  <a:pt x="4090" y="0"/>
                  <a:pt x="3952" y="0"/>
                </a:cubicBezTo>
                <a:lnTo>
                  <a:pt x="790" y="0"/>
                </a:lnTo>
              </a:path>
            </a:pathLst>
          </a:custGeom>
          <a:solidFill>
            <a:srgbClr val="ccccff"/>
          </a:solidFill>
          <a:ln w="9360">
            <a:solidFill>
              <a:srgbClr val="6f665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100" spc="-1" strike="noStrike">
                <a:solidFill>
                  <a:srgbClr val="bf4d00"/>
                </a:solidFill>
                <a:latin typeface="Times New Roman"/>
                <a:ea typeface="DejaVu Sans"/>
              </a:rPr>
              <a:t>(федеральный бюджет, бюджеты государственных внебюджетных фондов Российской Федерации)</a:t>
            </a:r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"/>
          <p:cNvSpPr/>
          <p:nvPr/>
        </p:nvSpPr>
        <p:spPr>
          <a:xfrm>
            <a:off x="3311640" y="4724280"/>
            <a:ext cx="2268360" cy="1779840"/>
          </a:xfrm>
          <a:custGeom>
            <a:avLst/>
            <a:gdLst/>
            <a:ahLst/>
            <a:rect l="l" t="t" r="r" b="b"/>
            <a:pathLst>
              <a:path w="6302" h="4945">
                <a:moveTo>
                  <a:pt x="824" y="0"/>
                </a:moveTo>
                <a:lnTo>
                  <a:pt x="824" y="0"/>
                </a:lnTo>
                <a:cubicBezTo>
                  <a:pt x="679" y="0"/>
                  <a:pt x="537" y="38"/>
                  <a:pt x="412" y="110"/>
                </a:cubicBezTo>
                <a:cubicBezTo>
                  <a:pt x="287" y="183"/>
                  <a:pt x="183" y="287"/>
                  <a:pt x="110" y="412"/>
                </a:cubicBezTo>
                <a:cubicBezTo>
                  <a:pt x="38" y="537"/>
                  <a:pt x="0" y="679"/>
                  <a:pt x="0" y="824"/>
                </a:cubicBezTo>
                <a:lnTo>
                  <a:pt x="0" y="4120"/>
                </a:lnTo>
                <a:lnTo>
                  <a:pt x="0" y="4121"/>
                </a:lnTo>
                <a:cubicBezTo>
                  <a:pt x="0" y="4266"/>
                  <a:pt x="38" y="4408"/>
                  <a:pt x="110" y="4533"/>
                </a:cubicBezTo>
                <a:cubicBezTo>
                  <a:pt x="183" y="4658"/>
                  <a:pt x="287" y="4762"/>
                  <a:pt x="412" y="4835"/>
                </a:cubicBezTo>
                <a:cubicBezTo>
                  <a:pt x="537" y="4907"/>
                  <a:pt x="679" y="4945"/>
                  <a:pt x="824" y="4945"/>
                </a:cubicBezTo>
                <a:lnTo>
                  <a:pt x="5477" y="4945"/>
                </a:lnTo>
                <a:lnTo>
                  <a:pt x="5478" y="4945"/>
                </a:lnTo>
                <a:cubicBezTo>
                  <a:pt x="5623" y="4945"/>
                  <a:pt x="5765" y="4907"/>
                  <a:pt x="5890" y="4835"/>
                </a:cubicBezTo>
                <a:cubicBezTo>
                  <a:pt x="6015" y="4762"/>
                  <a:pt x="6119" y="4658"/>
                  <a:pt x="6192" y="4533"/>
                </a:cubicBezTo>
                <a:cubicBezTo>
                  <a:pt x="6264" y="4408"/>
                  <a:pt x="6302" y="4266"/>
                  <a:pt x="6302" y="4121"/>
                </a:cubicBezTo>
                <a:lnTo>
                  <a:pt x="6302" y="824"/>
                </a:lnTo>
                <a:lnTo>
                  <a:pt x="6302" y="824"/>
                </a:lnTo>
                <a:lnTo>
                  <a:pt x="6302" y="824"/>
                </a:lnTo>
                <a:cubicBezTo>
                  <a:pt x="6302" y="679"/>
                  <a:pt x="6264" y="537"/>
                  <a:pt x="6192" y="412"/>
                </a:cubicBezTo>
                <a:cubicBezTo>
                  <a:pt x="6119" y="287"/>
                  <a:pt x="6015" y="183"/>
                  <a:pt x="5890" y="110"/>
                </a:cubicBezTo>
                <a:cubicBezTo>
                  <a:pt x="5765" y="38"/>
                  <a:pt x="5623" y="0"/>
                  <a:pt x="5478" y="0"/>
                </a:cubicBezTo>
                <a:lnTo>
                  <a:pt x="824" y="0"/>
                </a:lnTo>
              </a:path>
            </a:pathLst>
          </a:custGeom>
          <a:solidFill>
            <a:srgbClr val="ccccff"/>
          </a:solidFill>
          <a:ln w="9360">
            <a:solidFill>
              <a:srgbClr val="6f665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Субъектов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bf4d00"/>
                </a:solidFill>
                <a:latin typeface="Times New Roman"/>
                <a:ea typeface="DejaVu Sans"/>
              </a:rPr>
              <a:t>(региональные бюджеты, бюджеты территориальных фондов обязательного медицинского страхования)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2" name=""/>
          <p:cNvSpPr/>
          <p:nvPr/>
        </p:nvSpPr>
        <p:spPr>
          <a:xfrm>
            <a:off x="5977080" y="4616280"/>
            <a:ext cx="1834920" cy="1887840"/>
          </a:xfrm>
          <a:custGeom>
            <a:avLst/>
            <a:gdLst/>
            <a:ahLst/>
            <a:rect l="l" t="t" r="r" b="b"/>
            <a:pathLst>
              <a:path w="5098" h="5245">
                <a:moveTo>
                  <a:pt x="849" y="0"/>
                </a:moveTo>
                <a:lnTo>
                  <a:pt x="850" y="0"/>
                </a:lnTo>
                <a:cubicBezTo>
                  <a:pt x="701" y="0"/>
                  <a:pt x="554" y="39"/>
                  <a:pt x="425" y="114"/>
                </a:cubicBezTo>
                <a:cubicBezTo>
                  <a:pt x="296" y="188"/>
                  <a:pt x="188" y="296"/>
                  <a:pt x="114" y="425"/>
                </a:cubicBezTo>
                <a:cubicBezTo>
                  <a:pt x="39" y="554"/>
                  <a:pt x="0" y="701"/>
                  <a:pt x="0" y="850"/>
                </a:cubicBezTo>
                <a:lnTo>
                  <a:pt x="0" y="4395"/>
                </a:lnTo>
                <a:lnTo>
                  <a:pt x="0" y="4395"/>
                </a:lnTo>
                <a:cubicBezTo>
                  <a:pt x="0" y="4544"/>
                  <a:pt x="39" y="4691"/>
                  <a:pt x="114" y="4820"/>
                </a:cubicBezTo>
                <a:cubicBezTo>
                  <a:pt x="188" y="4949"/>
                  <a:pt x="296" y="5057"/>
                  <a:pt x="425" y="5131"/>
                </a:cubicBezTo>
                <a:cubicBezTo>
                  <a:pt x="554" y="5206"/>
                  <a:pt x="701" y="5245"/>
                  <a:pt x="850" y="5245"/>
                </a:cubicBezTo>
                <a:lnTo>
                  <a:pt x="4248" y="5245"/>
                </a:lnTo>
                <a:lnTo>
                  <a:pt x="4248" y="5245"/>
                </a:lnTo>
                <a:cubicBezTo>
                  <a:pt x="4397" y="5245"/>
                  <a:pt x="4544" y="5206"/>
                  <a:pt x="4673" y="5131"/>
                </a:cubicBezTo>
                <a:cubicBezTo>
                  <a:pt x="4802" y="5057"/>
                  <a:pt x="4910" y="4949"/>
                  <a:pt x="4984" y="4820"/>
                </a:cubicBezTo>
                <a:cubicBezTo>
                  <a:pt x="5059" y="4691"/>
                  <a:pt x="5098" y="4544"/>
                  <a:pt x="5098" y="4395"/>
                </a:cubicBezTo>
                <a:lnTo>
                  <a:pt x="5098" y="849"/>
                </a:lnTo>
                <a:lnTo>
                  <a:pt x="5098" y="850"/>
                </a:lnTo>
                <a:lnTo>
                  <a:pt x="5098" y="850"/>
                </a:lnTo>
                <a:cubicBezTo>
                  <a:pt x="5098" y="701"/>
                  <a:pt x="5059" y="554"/>
                  <a:pt x="4984" y="425"/>
                </a:cubicBezTo>
                <a:cubicBezTo>
                  <a:pt x="4910" y="296"/>
                  <a:pt x="4802" y="188"/>
                  <a:pt x="4673" y="114"/>
                </a:cubicBezTo>
                <a:cubicBezTo>
                  <a:pt x="4544" y="39"/>
                  <a:pt x="4397" y="0"/>
                  <a:pt x="4248" y="0"/>
                </a:cubicBezTo>
                <a:lnTo>
                  <a:pt x="849" y="0"/>
                </a:lnTo>
              </a:path>
            </a:pathLst>
          </a:custGeom>
          <a:solidFill>
            <a:srgbClr val="ccccff"/>
          </a:solidFill>
          <a:ln w="9360">
            <a:solidFill>
              <a:srgbClr val="6f665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Муниципальных образований </a:t>
            </a:r>
            <a:r>
              <a:rPr b="0" lang="ru-RU" sz="1200" spc="-1" strike="noStrike">
                <a:solidFill>
                  <a:srgbClr val="bf4d00"/>
                </a:solidFill>
                <a:latin typeface="Times New Roman"/>
                <a:ea typeface="DejaVu Sans"/>
              </a:rPr>
              <a:t>(местные бюджеты</a:t>
            </a:r>
            <a:r>
              <a:rPr b="0" lang="ru-RU" sz="1800" spc="-1" strike="noStrike">
                <a:solidFill>
                  <a:srgbClr val="bf4d00"/>
                </a:solidFill>
                <a:latin typeface="Times New Roman"/>
                <a:ea typeface="DejaVu San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cxnSp>
        <p:nvCxnSpPr>
          <p:cNvPr id="143" name=""/>
          <p:cNvCxnSpPr/>
          <p:nvPr/>
        </p:nvCxnSpPr>
        <p:spPr>
          <a:xfrm flipH="1">
            <a:off x="2157120" y="3681000"/>
            <a:ext cx="900720" cy="93564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144" name=""/>
          <p:cNvCxnSpPr/>
          <p:nvPr/>
        </p:nvCxnSpPr>
        <p:spPr>
          <a:xfrm>
            <a:off x="4446720" y="4041720"/>
            <a:ext cx="2160" cy="68292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145" name=""/>
          <p:cNvCxnSpPr/>
          <p:nvPr/>
        </p:nvCxnSpPr>
        <p:spPr>
          <a:xfrm>
            <a:off x="5977080" y="3681360"/>
            <a:ext cx="915120" cy="91512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419640" y="584280"/>
            <a:ext cx="32050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Расходы бюджета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7" name=""/>
          <p:cNvSpPr/>
          <p:nvPr/>
        </p:nvSpPr>
        <p:spPr>
          <a:xfrm>
            <a:off x="1440000" y="1125360"/>
            <a:ext cx="6588000" cy="91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ec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Расходы бюджета- денежные средства, направляемые на финансовое обеспечение задач и функций местного самоуправления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8" name=""/>
          <p:cNvSpPr/>
          <p:nvPr/>
        </p:nvSpPr>
        <p:spPr>
          <a:xfrm>
            <a:off x="2592360" y="2276640"/>
            <a:ext cx="3708360" cy="914400"/>
          </a:xfrm>
          <a:custGeom>
            <a:avLst/>
            <a:gdLst/>
            <a:ahLst/>
            <a:rect l="l" t="t" r="r" b="b"/>
            <a:pathLst>
              <a:path w="5151" h="1270">
                <a:moveTo>
                  <a:pt x="0" y="1270"/>
                </a:moveTo>
                <a:lnTo>
                  <a:pt x="5151" y="1270"/>
                </a:lnTo>
                <a:lnTo>
                  <a:pt x="180" y="90"/>
                </a:lnTo>
                <a:lnTo>
                  <a:pt x="5151" y="1270"/>
                </a:lnTo>
                <a:lnTo>
                  <a:pt x="270" y="90"/>
                </a:lnTo>
                <a:close/>
              </a:path>
            </a:pathLst>
          </a:custGeom>
          <a:solidFill>
            <a:srgbClr val="cccc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2e2e22"/>
                </a:solidFill>
                <a:latin typeface="Times New Roman"/>
                <a:ea typeface="DejaVu Sans"/>
              </a:rPr>
              <a:t>Классификация расходов по признакам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"/>
          <p:cNvSpPr/>
          <p:nvPr/>
        </p:nvSpPr>
        <p:spPr>
          <a:xfrm>
            <a:off x="820800" y="3895560"/>
            <a:ext cx="1771560" cy="2062440"/>
          </a:xfrm>
          <a:prstGeom prst="rect">
            <a:avLst/>
          </a:prstGeom>
          <a:solidFill>
            <a:srgbClr val="dbc4ae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Функциональна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Классификация отражает направление средств бюджета на выполнение основных функций местного самоуправления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3897360"/>
            <a:ext cx="1635120" cy="2345400"/>
          </a:xfrm>
          <a:prstGeom prst="rect">
            <a:avLst/>
          </a:prstGeom>
          <a:solidFill>
            <a:srgbClr val="dbc4ae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Ведомственная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Классификация расходов бюджета непосредственно связана со структурой управления, она отображает группировку расходов по функциональной классификации</a:t>
            </a: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1" name=""/>
          <p:cNvSpPr/>
          <p:nvPr/>
        </p:nvSpPr>
        <p:spPr>
          <a:xfrm>
            <a:off x="6624720" y="3798720"/>
            <a:ext cx="1871640" cy="2652840"/>
          </a:xfrm>
          <a:prstGeom prst="rect">
            <a:avLst/>
          </a:prstGeom>
          <a:solidFill>
            <a:srgbClr val="dbc4ae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Экономическая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классификация показывает деление расходов на текущие и  капитальные (заработная плата, материальные затраты, приобретение товаров и услуг и др.)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2" name=""/>
          <p:cNvSpPr/>
          <p:nvPr/>
        </p:nvSpPr>
        <p:spPr>
          <a:xfrm rot="2700000">
            <a:off x="2273040" y="2880000"/>
            <a:ext cx="404640" cy="1150920"/>
          </a:xfrm>
          <a:custGeom>
            <a:avLst/>
            <a:gdLst/>
            <a:ahLst/>
            <a:rect l="l" t="t" r="r" b="b"/>
            <a:pathLst>
              <a:path w="1125" h="3198">
                <a:moveTo>
                  <a:pt x="844" y="0"/>
                </a:moveTo>
                <a:lnTo>
                  <a:pt x="844" y="2600"/>
                </a:lnTo>
                <a:lnTo>
                  <a:pt x="1125" y="2600"/>
                </a:lnTo>
                <a:lnTo>
                  <a:pt x="563" y="3198"/>
                </a:lnTo>
                <a:lnTo>
                  <a:pt x="0" y="2600"/>
                </a:lnTo>
                <a:lnTo>
                  <a:pt x="283" y="2600"/>
                </a:lnTo>
                <a:lnTo>
                  <a:pt x="283" y="0"/>
                </a:lnTo>
                <a:lnTo>
                  <a:pt x="844" y="0"/>
                </a:lnTo>
              </a:path>
            </a:pathLst>
          </a:custGeom>
          <a:solidFill>
            <a:srgbClr val="cccc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3" name=""/>
          <p:cNvSpPr/>
          <p:nvPr/>
        </p:nvSpPr>
        <p:spPr>
          <a:xfrm>
            <a:off x="4284720" y="3191040"/>
            <a:ext cx="449280" cy="706320"/>
          </a:xfrm>
          <a:custGeom>
            <a:avLst/>
            <a:gdLst/>
            <a:ahLst/>
            <a:rect l="l" t="t" r="r" b="b"/>
            <a:pathLst>
              <a:path w="1249" h="1963">
                <a:moveTo>
                  <a:pt x="312" y="0"/>
                </a:moveTo>
                <a:lnTo>
                  <a:pt x="312" y="1338"/>
                </a:lnTo>
                <a:lnTo>
                  <a:pt x="0" y="1338"/>
                </a:lnTo>
                <a:lnTo>
                  <a:pt x="624" y="1963"/>
                </a:lnTo>
                <a:lnTo>
                  <a:pt x="1249" y="1338"/>
                </a:lnTo>
                <a:lnTo>
                  <a:pt x="936" y="1338"/>
                </a:lnTo>
                <a:lnTo>
                  <a:pt x="936" y="0"/>
                </a:lnTo>
                <a:lnTo>
                  <a:pt x="312" y="0"/>
                </a:lnTo>
              </a:path>
            </a:pathLst>
          </a:custGeom>
          <a:solidFill>
            <a:srgbClr val="cccc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4" name=""/>
          <p:cNvSpPr/>
          <p:nvPr/>
        </p:nvSpPr>
        <p:spPr>
          <a:xfrm rot="18900000">
            <a:off x="6392880" y="2803320"/>
            <a:ext cx="341280" cy="1137960"/>
          </a:xfrm>
          <a:custGeom>
            <a:avLst/>
            <a:gdLst/>
            <a:ahLst/>
            <a:rect l="l" t="t" r="r" b="b"/>
            <a:pathLst>
              <a:path w="949" h="3164">
                <a:moveTo>
                  <a:pt x="712" y="0"/>
                </a:moveTo>
                <a:lnTo>
                  <a:pt x="712" y="2641"/>
                </a:lnTo>
                <a:lnTo>
                  <a:pt x="949" y="2641"/>
                </a:lnTo>
                <a:lnTo>
                  <a:pt x="474" y="3164"/>
                </a:lnTo>
                <a:lnTo>
                  <a:pt x="0" y="2641"/>
                </a:lnTo>
                <a:lnTo>
                  <a:pt x="237" y="2641"/>
                </a:lnTo>
                <a:lnTo>
                  <a:pt x="236" y="0"/>
                </a:lnTo>
                <a:lnTo>
                  <a:pt x="712" y="0"/>
                </a:lnTo>
              </a:path>
            </a:pathLst>
          </a:custGeom>
          <a:solidFill>
            <a:srgbClr val="ccccff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06:37:33Z</dcterms:created>
  <dc:creator>Nazim.Sultanov</dc:creator>
  <dc:description/>
  <dc:language>en-US</dc:language>
  <cp:lastModifiedBy>Admin</cp:lastModifiedBy>
  <cp:lastPrinted>2025-01-28T08:57:54Z</cp:lastPrinted>
  <dcterms:modified xsi:type="dcterms:W3CDTF">2025-01-28T09:32:23Z</dcterms:modified>
  <cp:revision>1979</cp:revision>
  <dc:subject/>
  <dc:title>О совершенствовании системы мониторинга социально-экономического развития субъектов Российской Федер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